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86.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8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720" rIns="9072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72F5-05F2-4580-B15A-82485F137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95480" y="525600"/>
            <a:ext cx="3505320" cy="2628720"/>
          </a:xfrm>
          <a:prstGeom prst="rect">
            <a:avLst/>
          </a:prstGeom>
          <a:ln w="0">
            <a:noFill/>
          </a:ln>
        </p:spPr>
      </p:sp>
      <p:sp>
        <p:nvSpPr>
          <p:cNvPr id="24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8A2A-2E85-4FB0-8400-76F047C44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895480" y="525600"/>
            <a:ext cx="3505320" cy="2628720"/>
          </a:xfrm>
          <a:prstGeom prst="rect">
            <a:avLst/>
          </a:prstGeom>
          <a:ln w="0">
            <a:noFill/>
          </a:ln>
        </p:spPr>
      </p:sp>
      <p:sp>
        <p:nvSpPr>
          <p:cNvPr id="25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0382-26F3-4A27-A89B-583E31603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95480" y="525600"/>
            <a:ext cx="3505320" cy="2628720"/>
          </a:xfrm>
          <a:prstGeom prst="rect">
            <a:avLst/>
          </a:prstGeom>
          <a:ln w="0">
            <a:noFill/>
          </a:ln>
        </p:spPr>
      </p:sp>
      <p:sp>
        <p:nvSpPr>
          <p:cNvPr id="25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8400-B81E-4C59-803C-CB6E4E3AE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895480" y="525600"/>
            <a:ext cx="3505320" cy="2628720"/>
          </a:xfrm>
          <a:prstGeom prst="rect">
            <a:avLst/>
          </a:prstGeom>
          <a:ln w="0">
            <a:noFill/>
          </a:ln>
        </p:spPr>
      </p:sp>
      <p:sp>
        <p:nvSpPr>
          <p:cNvPr id="25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A694-884E-4FE4-B31D-060C94EA6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95480" y="525600"/>
            <a:ext cx="3505320" cy="2628720"/>
          </a:xfrm>
          <a:prstGeom prst="rect">
            <a:avLst/>
          </a:prstGeom>
          <a:ln w="0">
            <a:noFill/>
          </a:ln>
        </p:spPr>
      </p:sp>
      <p:sp>
        <p:nvSpPr>
          <p:cNvPr id="26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E0A3-B781-424D-9976-1EB433DAF4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895480" y="525600"/>
            <a:ext cx="3505320" cy="2628720"/>
          </a:xfrm>
          <a:prstGeom prst="rect">
            <a:avLst/>
          </a:prstGeom>
          <a:ln w="0">
            <a:noFill/>
          </a:ln>
        </p:spPr>
      </p:sp>
      <p:sp>
        <p:nvSpPr>
          <p:cNvPr id="26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000C-759D-4117-B049-621F7F948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95480" y="525600"/>
            <a:ext cx="3505320" cy="2628720"/>
          </a:xfrm>
          <a:prstGeom prst="rect">
            <a:avLst/>
          </a:prstGeom>
          <a:ln w="0">
            <a:noFill/>
          </a:ln>
        </p:spPr>
      </p:sp>
      <p:sp>
        <p:nvSpPr>
          <p:cNvPr id="26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B63F-1462-4676-84CD-CF7480B01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895480" y="525600"/>
            <a:ext cx="3505320" cy="2628720"/>
          </a:xfrm>
          <a:prstGeom prst="rect">
            <a:avLst/>
          </a:prstGeom>
          <a:ln w="0">
            <a:noFill/>
          </a:ln>
        </p:spPr>
      </p:sp>
      <p:sp>
        <p:nvSpPr>
          <p:cNvPr id="26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0F31-CDA4-4135-9DC3-532E24C9B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95480" y="525600"/>
            <a:ext cx="3505320" cy="2628720"/>
          </a:xfrm>
          <a:prstGeom prst="rect">
            <a:avLst/>
          </a:prstGeom>
          <a:ln w="0">
            <a:noFill/>
          </a:ln>
        </p:spPr>
      </p:sp>
      <p:sp>
        <p:nvSpPr>
          <p:cNvPr id="27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0D65-4AC1-4FE7-86CD-D9CB2AE96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895480" y="525600"/>
            <a:ext cx="3505320" cy="2628720"/>
          </a:xfrm>
          <a:prstGeom prst="rect">
            <a:avLst/>
          </a:prstGeom>
          <a:ln w="0">
            <a:noFill/>
          </a:ln>
        </p:spPr>
      </p:sp>
      <p:sp>
        <p:nvSpPr>
          <p:cNvPr id="27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EDAB-936C-42FC-B990-71C23EF01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95480" y="525600"/>
            <a:ext cx="3505320" cy="2628720"/>
          </a:xfrm>
          <a:prstGeom prst="rect">
            <a:avLst/>
          </a:prstGeom>
          <a:ln w="0">
            <a:noFill/>
          </a:ln>
        </p:spPr>
      </p:sp>
      <p:sp>
        <p:nvSpPr>
          <p:cNvPr id="27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F4D0-7BAE-4782-B93D-D9EA0FA5A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6258E-F4DD-488B-99B0-31F1EDEC5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8BC37-F377-456D-9DBB-3D00CA33A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DBEB5-208B-4B0B-99D3-69B64C380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6E224-6A29-4F23-A86C-19AADB9D8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A3384-0A9E-4E1C-97DC-B8F01B2AE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6403B-4A4B-4339-B070-554DD90B2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0CBBC-83FF-4C59-ACE6-7E1485989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BCA2-DD7A-4921-9C47-3DB077BF5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146CE-BFE8-4CD5-988A-FE3F6EEC8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EF933-9D75-4FC9-8B4D-C6DA4B2DA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A1C4-AC4B-44A1-B767-AE3BA9876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C3A8-9CE1-468A-AF88-7E2CA9511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4AAE-7283-4956-A065-D4C57CA694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228600" y="533520"/>
            <a:ext cx="8643960" cy="457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Reliability Issues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of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3-Phase Locomotive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14-15 Feb, 2019</a:t>
            </a:r>
            <a:endParaRPr b="0" lang="en-US" sz="3200" spc="-1" strike="noStrike">
              <a:solidFill>
                <a:srgbClr val="000000"/>
              </a:solidFill>
              <a:latin typeface="Arial"/>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B77B-C0FD-4914-A1DD-588E68ABB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12204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C-DAC VCU</a:t>
            </a:r>
            <a:endParaRPr b="0" lang="en-US" sz="3200" spc="-1" strike="noStrike">
              <a:solidFill>
                <a:srgbClr val="000000"/>
              </a:solidFill>
              <a:latin typeface="Calibri"/>
            </a:endParaRPr>
          </a:p>
        </p:txBody>
      </p:sp>
      <p:graphicFrame>
        <p:nvGraphicFramePr>
          <p:cNvPr id="67" name=""/>
          <p:cNvGraphicFramePr/>
          <p:nvPr/>
        </p:nvGraphicFramePr>
        <p:xfrm>
          <a:off x="380880" y="1089000"/>
          <a:ext cx="8305920" cy="3349800"/>
        </p:xfrm>
        <a:graphic>
          <a:graphicData uri="http://schemas.openxmlformats.org/drawingml/2006/table">
            <a:tbl>
              <a:tblPr/>
              <a:tblGrid>
                <a:gridCol w="355680"/>
                <a:gridCol w="2158920"/>
                <a:gridCol w="3376800"/>
                <a:gridCol w="2414520"/>
              </a:tblGrid>
              <a:tr h="55548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N</a:t>
                      </a:r>
                      <a:endParaRPr b="0" lang="en-US" sz="18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em</a:t>
                      </a:r>
                      <a:endParaRPr b="0" lang="en-US" sz="18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ai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marks</a:t>
                      </a:r>
                      <a:endParaRPr b="0" lang="en-US" sz="18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53216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49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 operation failure </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9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Multi operation failure in BHEL TCN loco due to reasons like tripping of slave loco &amp; panto lowered, traction not allowed in master &amp; slave loco.</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101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ials in different combinations of MU gateway successful in ELS/VSKP.</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armonic current hi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93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rial has been conducted at ELS/VSKP in loco no. 31967 on 24.01.19.</a:t>
                      </a:r>
                      <a:endParaRPr b="0" lang="en-US" sz="1800" spc="-1" strike="noStrike">
                        <a:solidFill>
                          <a:srgbClr val="000000"/>
                        </a:solidFill>
                        <a:latin typeface="Arial"/>
                      </a:endParaRPr>
                    </a:p>
                    <a:p>
                      <a:pPr marL="9360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erformance under watch.</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12204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TCN (C-DAC) VCU – Issues Reported by SR</a:t>
            </a:r>
            <a:endParaRPr b="0" lang="en-US" sz="3200" spc="-1" strike="noStrike">
              <a:solidFill>
                <a:srgbClr val="000000"/>
              </a:solidFill>
              <a:latin typeface="Calibri"/>
            </a:endParaRPr>
          </a:p>
        </p:txBody>
      </p:sp>
      <p:graphicFrame>
        <p:nvGraphicFramePr>
          <p:cNvPr id="69" name=""/>
          <p:cNvGraphicFramePr/>
          <p:nvPr/>
        </p:nvGraphicFramePr>
        <p:xfrm>
          <a:off x="304920" y="1143000"/>
          <a:ext cx="8610480" cy="4924440"/>
        </p:xfrm>
        <a:graphic>
          <a:graphicData uri="http://schemas.openxmlformats.org/drawingml/2006/table">
            <a:tbl>
              <a:tblPr/>
              <a:tblGrid>
                <a:gridCol w="717480"/>
                <a:gridCol w="3092400"/>
                <a:gridCol w="3733920"/>
                <a:gridCol w="519120"/>
                <a:gridCol w="547560"/>
              </a:tblGrid>
              <a:tr h="3744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N</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sues</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ult logged/ Remarks</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GL</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BB</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r>
              <a:tr h="558360">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gie isolation due to software mismatch</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G1:0084 - SLG-2 S/W version mismatch.</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r>
              <a:tr h="55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G1:0082 - Master def. bogi2 mismatch.</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360">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tery charger stops working.</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R2:0020 - Bat. Charge current below 10A (Battery voltage 99V).</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r>
              <a:tr h="55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R3:0016 - Bat. Charge current below 10A (Battery voltage 414V).</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2880">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ong sensing of speed, BP and OHE.</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FLG: 0037 - S/R interlock - Loco brake.</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r>
              <a:tr h="558360">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rdware Failure messages.</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G : 0002 - Analog input slot T defective.</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r>
              <a:tr h="55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G: 0048 - Timeout peri. Test end B1 and TEC hardware failure.</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4400">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fined Error</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ror Undefined - 0055</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r>
              <a:tr h="28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ror Undefined - 0089</a:t>
                      </a:r>
                      <a:endParaRPr b="0" lang="en-US" sz="18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2B53-34A9-4940-BE06-FDC0C45FC4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04920" y="2209680"/>
            <a:ext cx="8640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erformance of M/s. BTIL make Converters (IG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Traction Converter</a:t>
            </a:r>
            <a:endParaRPr b="0" lang="en-US" sz="3200" spc="-1" strike="noStrike">
              <a:solidFill>
                <a:srgbClr val="000000"/>
              </a:solidFill>
              <a:latin typeface="Calibri"/>
            </a:endParaRPr>
          </a:p>
        </p:txBody>
      </p:sp>
      <p:pic>
        <p:nvPicPr>
          <p:cNvPr id="73" name="Object 96" descr=""/>
          <p:cNvPicPr/>
          <p:nvPr/>
        </p:nvPicPr>
        <p:blipFill>
          <a:blip r:embed="rId1"/>
          <a:stretch/>
        </p:blipFill>
        <p:spPr>
          <a:xfrm>
            <a:off x="152280" y="1066680"/>
            <a:ext cx="8894880" cy="524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27432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Traction Converter</a:t>
            </a:r>
            <a:br>
              <a:rPr sz="3200"/>
            </a:br>
            <a:r>
              <a:rPr b="1" lang="en-US" sz="2400" spc="-1" strike="noStrike">
                <a:solidFill>
                  <a:srgbClr val="c00000"/>
                </a:solidFill>
                <a:latin typeface="Calibri"/>
              </a:rPr>
              <a:t>(SHED WISE)</a:t>
            </a:r>
            <a:endParaRPr b="0" lang="en-US" sz="2400" spc="-1" strike="noStrike">
              <a:solidFill>
                <a:srgbClr val="000000"/>
              </a:solidFill>
              <a:latin typeface="Calibri"/>
            </a:endParaRPr>
          </a:p>
        </p:txBody>
      </p:sp>
      <p:pic>
        <p:nvPicPr>
          <p:cNvPr id="75" name="Object 94" descr=""/>
          <p:cNvPicPr/>
          <p:nvPr/>
        </p:nvPicPr>
        <p:blipFill>
          <a:blip r:embed="rId1"/>
          <a:stretch/>
        </p:blipFill>
        <p:spPr>
          <a:xfrm>
            <a:off x="61920" y="1600200"/>
            <a:ext cx="9020160" cy="286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Traction Converter</a:t>
            </a:r>
            <a:endParaRPr b="0" lang="en-US" sz="3200" spc="-1" strike="noStrike">
              <a:solidFill>
                <a:srgbClr val="000000"/>
              </a:solidFill>
              <a:latin typeface="Calibri"/>
            </a:endParaRPr>
          </a:p>
        </p:txBody>
      </p:sp>
      <p:graphicFrame>
        <p:nvGraphicFramePr>
          <p:cNvPr id="77" name=""/>
          <p:cNvGraphicFramePr/>
          <p:nvPr/>
        </p:nvGraphicFramePr>
        <p:xfrm>
          <a:off x="380880" y="762120"/>
          <a:ext cx="8458200" cy="5797440"/>
        </p:xfrm>
        <a:graphic>
          <a:graphicData uri="http://schemas.openxmlformats.org/drawingml/2006/table">
            <a:tbl>
              <a:tblPr/>
              <a:tblGrid>
                <a:gridCol w="635040"/>
                <a:gridCol w="1727280"/>
                <a:gridCol w="3048120"/>
                <a:gridCol w="3047760"/>
              </a:tblGrid>
              <a:tr h="312480">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7200" marR="7200">
                    <a:lnL w="2880">
                      <a:solidFill>
                        <a:srgbClr val="000000"/>
                      </a:solidFill>
                    </a:lnL>
                    <a:lnR w="2880">
                      <a:solidFill>
                        <a:srgbClr val="000000"/>
                      </a:solidFill>
                    </a:lnR>
                    <a:lnT w="2880">
                      <a:solidFill>
                        <a:srgbClr val="000000"/>
                      </a:solidFill>
                    </a:lnT>
                    <a:lnB w="2880">
                      <a:solidFill>
                        <a:srgbClr val="000000"/>
                      </a:solidFill>
                    </a:lnB>
                    <a:noFill/>
                  </a:tcPr>
                </a:tc>
              </a:tr>
              <a:tr h="5488920">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0" lang="en-US" sz="2000" spc="-1" strike="noStrike">
                        <a:solidFill>
                          <a:srgbClr val="000000"/>
                        </a:solidFill>
                        <a:latin typeface="Arial"/>
                      </a:endParaRPr>
                    </a:p>
                  </a:txBody>
                  <a:tcPr anchor="t"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ures of Power Modules</a:t>
                      </a:r>
                      <a:endParaRPr b="0" lang="en-US" sz="2000" spc="-1" strike="noStrike">
                        <a:solidFill>
                          <a:srgbClr val="000000"/>
                        </a:solidFill>
                        <a:latin typeface="Arial"/>
                      </a:endParaRPr>
                    </a:p>
                  </a:txBody>
                  <a:tcPr anchor="t"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Release of new SW version 218T01BT &amp; 318T01BT that limits the max allowed current when the coolant flow is suboptimal during the ramp up of the aux converter</a:t>
                      </a:r>
                      <a:r>
                        <a:rPr b="0" lang="en-IN" sz="2000" spc="-1" strike="noStrike">
                          <a:solidFill>
                            <a:srgbClr val="000000"/>
                          </a:solidFill>
                          <a:latin typeface="Calibri"/>
                          <a:ea typeface="Times New Roman"/>
                        </a:rPr>
                        <a:t>.</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M/s BTIPL has proposed to replace a pipe in the converter cooling circuit that has an orifice of 18mm diameter with one that uses a larger orifice with 21.5.mm diameter to increase the coolant flow rate from 176 LPM to 237 LPM. </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ied software installed in – 130 locos</a:t>
                      </a:r>
                      <a:endParaRPr b="0" lang="en-US" sz="2000" spc="-1" strike="noStrike">
                        <a:solidFill>
                          <a:srgbClr val="000000"/>
                        </a:solidFill>
                        <a:latin typeface="Arial"/>
                      </a:endParaRPr>
                    </a:p>
                    <a:p>
                      <a:pPr marL="285840" indent="-28584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alance – 40</a:t>
                      </a:r>
                      <a:endParaRPr b="0" lang="en-US" sz="2000" spc="-1" strike="noStrike">
                        <a:solidFill>
                          <a:srgbClr val="000000"/>
                        </a:solidFill>
                        <a:latin typeface="Arial"/>
                      </a:endParaRPr>
                    </a:p>
                    <a:p>
                      <a:pPr marL="285840" indent="-28584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DC – 28.02.19.</a:t>
                      </a:r>
                      <a:endParaRPr b="0" lang="en-US" sz="20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DSO has cleared to replace the cooling circuit with increased orifice of 21.5 mm in 25 locomotives.</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Traction Converter</a:t>
            </a:r>
            <a:endParaRPr b="0" lang="en-US" sz="3200" spc="-1" strike="noStrike">
              <a:solidFill>
                <a:srgbClr val="000000"/>
              </a:solidFill>
              <a:latin typeface="Calibri"/>
            </a:endParaRPr>
          </a:p>
        </p:txBody>
      </p:sp>
      <p:graphicFrame>
        <p:nvGraphicFramePr>
          <p:cNvPr id="79" name=""/>
          <p:cNvGraphicFramePr/>
          <p:nvPr/>
        </p:nvGraphicFramePr>
        <p:xfrm>
          <a:off x="76320" y="533520"/>
          <a:ext cx="8991360" cy="5511600"/>
        </p:xfrm>
        <a:graphic>
          <a:graphicData uri="http://schemas.openxmlformats.org/drawingml/2006/table">
            <a:tbl>
              <a:tblPr/>
              <a:tblGrid>
                <a:gridCol w="387360"/>
                <a:gridCol w="1704960"/>
                <a:gridCol w="3165480"/>
                <a:gridCol w="3733560"/>
              </a:tblGrid>
              <a:tr h="31104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26002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ain power OFF due to ‘FLG-1 time out DC link circuit charge’</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ddressed in new SW version 218T01BT &amp; 318T01BT that limits the max allowed current when the coolant flow is suboptimal during the ramp up of the aux converter</a:t>
                      </a:r>
                      <a:r>
                        <a:rPr b="0" lang="en-US" sz="2000" spc="-1" strike="noStrike">
                          <a:solidFill>
                            <a:srgbClr val="000000"/>
                          </a:solidFill>
                          <a:latin typeface="Calibri"/>
                          <a:ea typeface="Calibri"/>
                        </a:rPr>
                        <a:t>.</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Mangal"/>
                        </a:rPr>
                        <a:t>Modified software installed in – 130 loco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Mangal"/>
                        </a:rPr>
                        <a:t>Balance – </a:t>
                      </a:r>
                      <a:r>
                        <a:rPr b="0" lang="en-US" sz="2000" spc="-1" strike="noStrike">
                          <a:solidFill>
                            <a:srgbClr val="000000"/>
                          </a:solidFill>
                          <a:latin typeface="Calibri"/>
                          <a:ea typeface="Mangal"/>
                        </a:rPr>
                        <a:t>40</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Mangal"/>
                        </a:rPr>
                        <a:t>PDC – 28.02.19.</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26002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C link overvoltage during regeneration.</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problem was addressed in previous software version; however the fault messages are still being reported. Firm has been advised to re-look.</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matter shall be discussed in reliability meeting on 14/15.02.19 at ELS/HWH.</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Traction Converter</a:t>
            </a:r>
            <a:endParaRPr b="0" lang="en-US" sz="3200" spc="-1" strike="noStrike">
              <a:solidFill>
                <a:srgbClr val="000000"/>
              </a:solidFill>
              <a:latin typeface="Calibri"/>
            </a:endParaRPr>
          </a:p>
        </p:txBody>
      </p:sp>
      <p:graphicFrame>
        <p:nvGraphicFramePr>
          <p:cNvPr id="81" name=""/>
          <p:cNvGraphicFramePr/>
          <p:nvPr/>
        </p:nvGraphicFramePr>
        <p:xfrm>
          <a:off x="20520" y="685800"/>
          <a:ext cx="8666280" cy="5562720"/>
        </p:xfrm>
        <a:graphic>
          <a:graphicData uri="http://schemas.openxmlformats.org/drawingml/2006/table">
            <a:tbl>
              <a:tblPr/>
              <a:tblGrid>
                <a:gridCol w="436680"/>
                <a:gridCol w="2035080"/>
                <a:gridCol w="6194520"/>
              </a:tblGrid>
              <a:tr h="45504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51076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Logging of spurious messages </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ea typeface="Times New Roman"/>
                        </a:rPr>
                        <a:t>ELS/BRC reported following:</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ea typeface="Times New Roman"/>
                        </a:rPr>
                        <a:t>In loco 30480:  </a:t>
                      </a:r>
                      <a:endParaRPr b="0" lang="en-US" sz="20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CON1: 311 Trac. Mot.2 Temp. implausible. CON1/2: PSU for DCUM implausible.</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ea typeface="Times New Roman"/>
                        </a:rPr>
                        <a:t>In loco 30470: </a:t>
                      </a:r>
                      <a:endParaRPr b="0" lang="en-US" sz="20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a:t>
                      </a:r>
                      <a:r>
                        <a:rPr b="0" lang="en-IN" sz="2000" spc="-1" strike="noStrike">
                          <a:solidFill>
                            <a:srgbClr val="000000"/>
                          </a:solidFill>
                          <a:latin typeface="Calibri"/>
                          <a:ea typeface="Times New Roman"/>
                        </a:rPr>
                        <a:t>CON1:204 A627 PSU for DCUM3 implausible”, “CON1:203 A625 PSU for DCUM2 implausible”, “CON1:202 A623 PSU for DCUM1 implausible”, “CON1:201 A621 PSU for PCUL implausible”</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ea typeface="Times New Roman"/>
                        </a:rPr>
                        <a:t>In loco 30474 : </a:t>
                      </a:r>
                      <a:endParaRPr b="0" lang="en-US" sz="20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TM2 Bogie-1 isolate without any failure message </a:t>
                      </a:r>
                      <a:endParaRPr b="0" lang="en-US" sz="20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con1 M2 pulsing not started </a:t>
                      </a:r>
                      <a:endParaRPr b="0" lang="en-US" sz="20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DCUM1 or cabling faulty </a:t>
                      </a:r>
                      <a:endParaRPr b="0" lang="en-US" sz="20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DCUM3 or cabling faulty- Bogie 1 got isolated</a:t>
                      </a:r>
                      <a:endParaRPr b="0" lang="en-US" sz="20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Main power got off without any message</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Traction Converter</a:t>
            </a:r>
            <a:endParaRPr b="0" lang="en-US" sz="3200" spc="-1" strike="noStrike">
              <a:solidFill>
                <a:srgbClr val="000000"/>
              </a:solidFill>
              <a:latin typeface="Calibri"/>
            </a:endParaRPr>
          </a:p>
        </p:txBody>
      </p:sp>
      <p:graphicFrame>
        <p:nvGraphicFramePr>
          <p:cNvPr id="83" name=""/>
          <p:cNvGraphicFramePr/>
          <p:nvPr/>
        </p:nvGraphicFramePr>
        <p:xfrm>
          <a:off x="0" y="914400"/>
          <a:ext cx="8915400" cy="2886120"/>
        </p:xfrm>
        <a:graphic>
          <a:graphicData uri="http://schemas.openxmlformats.org/drawingml/2006/table">
            <a:tbl>
              <a:tblPr/>
              <a:tblGrid>
                <a:gridCol w="450720"/>
                <a:gridCol w="2181240"/>
                <a:gridCol w="6283440"/>
              </a:tblGrid>
              <a:tr h="31104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25750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Logging of spurious messages (contd)</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marL="36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ea typeface="Times New Roman"/>
                        </a:rPr>
                        <a:t>In loco 30486 : bogie isolated due to following messages </a:t>
                      </a:r>
                      <a:endParaRPr b="0" lang="en-US" sz="2000" spc="-1" strike="noStrike">
                        <a:solidFill>
                          <a:srgbClr val="000000"/>
                        </a:solidFill>
                        <a:latin typeface="Arial"/>
                      </a:endParaRPr>
                    </a:p>
                    <a:p>
                      <a:pPr marL="3636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CON2: comm.. Loss to DCUM1, DCUM2, DCUM3 &amp; DCUL.</a:t>
                      </a:r>
                      <a:endParaRPr b="0" lang="en-US" sz="2000" spc="-1" strike="noStrike">
                        <a:solidFill>
                          <a:srgbClr val="000000"/>
                        </a:solidFill>
                        <a:latin typeface="Arial"/>
                      </a:endParaRPr>
                    </a:p>
                    <a:p>
                      <a:pPr marL="3636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CON2:  PSU OFF relay feedback fault.</a:t>
                      </a:r>
                      <a:endParaRPr b="0" lang="en-US" sz="2000" spc="-1" strike="noStrike">
                        <a:solidFill>
                          <a:srgbClr val="000000"/>
                        </a:solidFill>
                        <a:latin typeface="Arial"/>
                      </a:endParaRPr>
                    </a:p>
                    <a:p>
                      <a:pPr marL="3636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Dist. Redundant VCI2</a:t>
                      </a:r>
                      <a:endParaRPr b="0" lang="en-US" sz="2000" spc="-1" strike="noStrike">
                        <a:solidFill>
                          <a:srgbClr val="000000"/>
                        </a:solidFill>
                        <a:latin typeface="Arial"/>
                      </a:endParaRPr>
                    </a:p>
                    <a:p>
                      <a:pPr marL="3636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Dist. Comm. CON2 VCI</a:t>
                      </a:r>
                      <a:endParaRPr b="0" lang="en-US" sz="2000" spc="-1" strike="noStrike">
                        <a:solidFill>
                          <a:srgbClr val="000000"/>
                        </a:solidFill>
                        <a:latin typeface="Arial"/>
                      </a:endParaRPr>
                    </a:p>
                    <a:p>
                      <a:pPr marL="36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VCI2 : Amp2 isolate</a:t>
                      </a:r>
                      <a:endParaRPr b="0" lang="en-US" sz="2000" spc="-1" strike="noStrike">
                        <a:solidFill>
                          <a:srgbClr val="000000"/>
                        </a:solidFill>
                        <a:latin typeface="Arial"/>
                      </a:endParaRPr>
                    </a:p>
                    <a:p>
                      <a:pPr marL="36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Traction Converter</a:t>
            </a:r>
            <a:endParaRPr b="0" lang="en-US" sz="3200" spc="-1" strike="noStrike">
              <a:solidFill>
                <a:srgbClr val="000000"/>
              </a:solidFill>
              <a:latin typeface="Calibri"/>
            </a:endParaRPr>
          </a:p>
        </p:txBody>
      </p:sp>
      <p:graphicFrame>
        <p:nvGraphicFramePr>
          <p:cNvPr id="85" name=""/>
          <p:cNvGraphicFramePr/>
          <p:nvPr/>
        </p:nvGraphicFramePr>
        <p:xfrm>
          <a:off x="20520" y="685800"/>
          <a:ext cx="8991720" cy="2063880"/>
        </p:xfrm>
        <a:graphic>
          <a:graphicData uri="http://schemas.openxmlformats.org/drawingml/2006/table">
            <a:tbl>
              <a:tblPr/>
              <a:tblGrid>
                <a:gridCol w="387360"/>
                <a:gridCol w="1704960"/>
                <a:gridCol w="4440240"/>
                <a:gridCol w="2459160"/>
              </a:tblGrid>
              <a:tr h="31104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175356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solating cock in cooling circuit</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solating cock has not been provided in cooling circuit of traction converter. Required to incorporate the same to prevent drainage of coolant during radiator/converter replacement.</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urther decision will be taken to provide the same on requirement evaluation.</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657440" y="2285640"/>
            <a:ext cx="5829120" cy="11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ISSUES OF C-DAC TCN VCU</a:t>
            </a:r>
            <a:endParaRPr b="0" lang="en-US" sz="4000" spc="-1" strike="noStrike">
              <a:solidFill>
                <a:srgbClr val="000000"/>
              </a:solidFill>
              <a:latin typeface="Calibri"/>
            </a:endParaRPr>
          </a:p>
        </p:txBody>
      </p:sp>
      <p:sp>
        <p:nvSpPr>
          <p:cNvPr id="51" name="Title 1"/>
          <p:cNvSpPr/>
          <p:nvPr/>
        </p:nvSpPr>
        <p:spPr>
          <a:xfrm>
            <a:off x="1657440" y="2384280"/>
            <a:ext cx="5829120" cy="1101960"/>
          </a:xfrm>
          <a:prstGeom prst="rect">
            <a:avLst/>
          </a:prstGeom>
          <a:no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Propulsion System</a:t>
            </a:r>
            <a:endParaRPr b="0" lang="en-US" sz="3200" spc="-1" strike="noStrike">
              <a:solidFill>
                <a:srgbClr val="000000"/>
              </a:solidFill>
              <a:latin typeface="Calibri"/>
            </a:endParaRPr>
          </a:p>
        </p:txBody>
      </p:sp>
      <p:graphicFrame>
        <p:nvGraphicFramePr>
          <p:cNvPr id="87" name=""/>
          <p:cNvGraphicFramePr/>
          <p:nvPr/>
        </p:nvGraphicFramePr>
        <p:xfrm>
          <a:off x="20520" y="685800"/>
          <a:ext cx="8991720" cy="4351320"/>
        </p:xfrm>
        <a:graphic>
          <a:graphicData uri="http://schemas.openxmlformats.org/drawingml/2006/table">
            <a:tbl>
              <a:tblPr/>
              <a:tblGrid>
                <a:gridCol w="387360"/>
                <a:gridCol w="1704960"/>
                <a:gridCol w="4440240"/>
                <a:gridCol w="2459160"/>
              </a:tblGrid>
              <a:tr h="31104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19360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ssues common with the traction converter</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imited approval for 12 locos for trial was given. It will address following issues:</a:t>
                      </a:r>
                      <a:endParaRPr b="0" lang="en-US" sz="2000" spc="-1" strike="noStrike">
                        <a:solidFill>
                          <a:srgbClr val="000000"/>
                        </a:solidFill>
                        <a:latin typeface="Arial"/>
                      </a:endParaRPr>
                    </a:p>
                    <a:p>
                      <a:pPr algn="just">
                        <a:lnSpc>
                          <a:spcPct val="100000"/>
                        </a:lnSpc>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Addressing IGBT failure issues.</a:t>
                      </a:r>
                      <a:endParaRPr b="0" lang="en-US" sz="2000" spc="-1" strike="noStrike">
                        <a:solidFill>
                          <a:srgbClr val="000000"/>
                        </a:solidFill>
                        <a:latin typeface="Arial"/>
                      </a:endParaRPr>
                    </a:p>
                    <a:p>
                      <a:pPr algn="just">
                        <a:lnSpc>
                          <a:spcPct val="100000"/>
                        </a:lnSpc>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MU functionality</a:t>
                      </a:r>
                      <a:endParaRPr b="0" lang="en-US" sz="2000" spc="-1" strike="noStrike">
                        <a:solidFill>
                          <a:srgbClr val="000000"/>
                        </a:solidFill>
                        <a:latin typeface="Arial"/>
                      </a:endParaRPr>
                    </a:p>
                    <a:p>
                      <a:pPr algn="just">
                        <a:lnSpc>
                          <a:spcPct val="100000"/>
                        </a:lnSpc>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Hotel load integration functionality</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DC for regular cut-in 20.02.19.</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210420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rruption of wheel diameter due to software problem. </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s per M/s BT, the wheel diameter data is being stored in NV memory which get corrupted very easily. They are planning to move this data to internal memory of DCU cards.</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s BT to give the action plan.</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Propulsion System</a:t>
            </a:r>
            <a:endParaRPr b="0" lang="en-US" sz="3200" spc="-1" strike="noStrike">
              <a:solidFill>
                <a:srgbClr val="000000"/>
              </a:solidFill>
              <a:latin typeface="Calibri"/>
            </a:endParaRPr>
          </a:p>
        </p:txBody>
      </p:sp>
      <p:graphicFrame>
        <p:nvGraphicFramePr>
          <p:cNvPr id="89" name=""/>
          <p:cNvGraphicFramePr/>
          <p:nvPr/>
        </p:nvGraphicFramePr>
        <p:xfrm>
          <a:off x="20520" y="685800"/>
          <a:ext cx="8991720" cy="6051600"/>
        </p:xfrm>
        <a:graphic>
          <a:graphicData uri="http://schemas.openxmlformats.org/drawingml/2006/table">
            <a:tbl>
              <a:tblPr/>
              <a:tblGrid>
                <a:gridCol w="387360"/>
                <a:gridCol w="2716200"/>
                <a:gridCol w="3886200"/>
                <a:gridCol w="2001960"/>
              </a:tblGrid>
              <a:tr h="36396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140292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atenary voltage out of limits.</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 </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propulsion software has been drawn as per old MICAS software. The changes related to OHE voltage limit need to be implemented. </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s BT to give the action plan.</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175356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CUO: 0231-UPRIM Sensing Ckt Flt SPIF1 logged and subsequently main power off. </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Under investigation. </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s BT to give the action plan.</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253116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elevant variables always are missing in DDS data.</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 DDS environment data relevant variables always are missing. i.e. in error log pertaining to OHE voltage, OHE voltage field is missing. &amp; same is the case with other error messages.     </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BTIL has to take corrective action</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Propulsion System</a:t>
            </a:r>
            <a:endParaRPr b="0" lang="en-US" sz="3200" spc="-1" strike="noStrike">
              <a:solidFill>
                <a:srgbClr val="000000"/>
              </a:solidFill>
              <a:latin typeface="Calibri"/>
            </a:endParaRPr>
          </a:p>
        </p:txBody>
      </p:sp>
      <p:graphicFrame>
        <p:nvGraphicFramePr>
          <p:cNvPr id="91" name=""/>
          <p:cNvGraphicFramePr/>
          <p:nvPr/>
        </p:nvGraphicFramePr>
        <p:xfrm>
          <a:off x="20520" y="685800"/>
          <a:ext cx="8991720" cy="5638680"/>
        </p:xfrm>
        <a:graphic>
          <a:graphicData uri="http://schemas.openxmlformats.org/drawingml/2006/table">
            <a:tbl>
              <a:tblPr/>
              <a:tblGrid>
                <a:gridCol w="387360"/>
                <a:gridCol w="2183040"/>
                <a:gridCol w="4800600"/>
                <a:gridCol w="1620720"/>
              </a:tblGrid>
              <a:tr h="45432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518436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ssues in propulsion system faced by ELS/HWH </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marL="343080" indent="-343080" algn="just">
                        <a:lnSpc>
                          <a:spcPct val="100000"/>
                        </a:lnSpc>
                        <a:spcAft>
                          <a:spcPts val="601"/>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Motors are getting isolated frequently with message ‘speed sensor single channel faulty &amp; M1/M2/M3 switching command feedback failure. </a:t>
                      </a:r>
                      <a:endParaRPr b="0" lang="en-US" sz="2000" spc="-1" strike="noStrike">
                        <a:solidFill>
                          <a:srgbClr val="000000"/>
                        </a:solidFill>
                        <a:latin typeface="Arial"/>
                      </a:endParaRPr>
                    </a:p>
                    <a:p>
                      <a:pPr marL="343080" indent="-343080" algn="just">
                        <a:lnSpc>
                          <a:spcPct val="100000"/>
                        </a:lnSpc>
                        <a:spcAft>
                          <a:spcPts val="601"/>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Messages are being logged, ‘L: Pantograph bouncing’ then all BUR remains idle or in recovery stage which leads sensing ‘low coolant pressure’ by both traction converters.  </a:t>
                      </a:r>
                      <a:endParaRPr b="0" lang="en-US" sz="2000" spc="-1" strike="noStrike">
                        <a:solidFill>
                          <a:srgbClr val="000000"/>
                        </a:solidFill>
                        <a:latin typeface="Arial"/>
                      </a:endParaRPr>
                    </a:p>
                    <a:p>
                      <a:pPr marL="343080" indent="-343080" algn="just">
                        <a:lnSpc>
                          <a:spcPct val="100000"/>
                        </a:lnSpc>
                        <a:spcAft>
                          <a:spcPts val="601"/>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During self-testing sometimes Traction bogie getting isolated without any message. </a:t>
                      </a:r>
                      <a:endParaRPr b="0" lang="en-US" sz="2000" spc="-1" strike="noStrike">
                        <a:solidFill>
                          <a:srgbClr val="000000"/>
                        </a:solidFill>
                        <a:latin typeface="Arial"/>
                      </a:endParaRPr>
                    </a:p>
                    <a:p>
                      <a:pPr marL="343080" indent="-343080" algn="just">
                        <a:lnSpc>
                          <a:spcPct val="100000"/>
                        </a:lnSpc>
                        <a:spcAft>
                          <a:spcPts val="601"/>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Protective shut down due to ‘MVB pull wire from other DCU active’. </a:t>
                      </a:r>
                      <a:endParaRPr b="0" lang="en-US" sz="2000" spc="-1" strike="noStrike">
                        <a:solidFill>
                          <a:srgbClr val="000000"/>
                        </a:solidFill>
                        <a:latin typeface="Arial"/>
                      </a:endParaRPr>
                    </a:p>
                    <a:p>
                      <a:pPr marL="343080" indent="-343080" algn="just">
                        <a:lnSpc>
                          <a:spcPct val="100000"/>
                        </a:lnSpc>
                        <a:spcAft>
                          <a:spcPts val="601"/>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Ms are getting isolated without sufficient back ground data in DDS.</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s BT to give action plan</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Propulsion System</a:t>
            </a:r>
            <a:endParaRPr b="0" lang="en-US" sz="3200" spc="-1" strike="noStrike">
              <a:solidFill>
                <a:srgbClr val="000000"/>
              </a:solidFill>
              <a:latin typeface="Calibri"/>
            </a:endParaRPr>
          </a:p>
        </p:txBody>
      </p:sp>
      <p:graphicFrame>
        <p:nvGraphicFramePr>
          <p:cNvPr id="93" name=""/>
          <p:cNvGraphicFramePr/>
          <p:nvPr/>
        </p:nvGraphicFramePr>
        <p:xfrm>
          <a:off x="20520" y="685800"/>
          <a:ext cx="8991720" cy="5516640"/>
        </p:xfrm>
        <a:graphic>
          <a:graphicData uri="http://schemas.openxmlformats.org/drawingml/2006/table">
            <a:tbl>
              <a:tblPr/>
              <a:tblGrid>
                <a:gridCol w="387360"/>
                <a:gridCol w="1573200"/>
                <a:gridCol w="4953240"/>
                <a:gridCol w="2077920"/>
              </a:tblGrid>
              <a:tr h="4564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2805480">
                <a:tc rowSpan="3">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ther issues</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metimes even in shed during loco checking suddenly VCB tripped, PT got down &amp; after some time PT got raised by itself &amp; following disturbance messages logged.</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CUO:0198- Catenary Voltage out of Limits.</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CUO:0183-Power reduction line voltage</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 Power limitation 1 active (PLine)</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 Pantograph bouncing</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T has to take corrective action and to submit the action plan.</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775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n AUX CON data most of the time no fault is getting logged.</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Arial"/>
                        </a:rPr>
                        <a:t>Traction converter is getting isolated without any message and with message ‘L charging resistor too hot’.</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Propulsion System</a:t>
            </a:r>
            <a:endParaRPr b="0" lang="en-US" sz="3200" spc="-1" strike="noStrike">
              <a:solidFill>
                <a:srgbClr val="000000"/>
              </a:solidFill>
              <a:latin typeface="Calibri"/>
            </a:endParaRPr>
          </a:p>
        </p:txBody>
      </p:sp>
      <p:graphicFrame>
        <p:nvGraphicFramePr>
          <p:cNvPr id="95" name=""/>
          <p:cNvGraphicFramePr/>
          <p:nvPr/>
        </p:nvGraphicFramePr>
        <p:xfrm>
          <a:off x="20520" y="685800"/>
          <a:ext cx="8991720" cy="3124080"/>
        </p:xfrm>
        <a:graphic>
          <a:graphicData uri="http://schemas.openxmlformats.org/drawingml/2006/table">
            <a:tbl>
              <a:tblPr/>
              <a:tblGrid>
                <a:gridCol w="387360"/>
                <a:gridCol w="1573200"/>
                <a:gridCol w="4953240"/>
                <a:gridCol w="2077920"/>
              </a:tblGrid>
              <a:tr h="45720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26668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ther issues (contd)</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hen any fault occurs dds is showing only the latest instant of fault occurrence and older ones are storing as counts. So Lp is unable to check the sequence of fault occurrence.</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hen ZTEL is operated Traction is limited to only 84 KN.</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T has to take corrective action and to submit the action plan.</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Propulsion System</a:t>
            </a:r>
            <a:endParaRPr b="0" lang="en-US" sz="3200" spc="-1" strike="noStrike">
              <a:solidFill>
                <a:srgbClr val="000000"/>
              </a:solidFill>
              <a:latin typeface="Calibri"/>
            </a:endParaRPr>
          </a:p>
        </p:txBody>
      </p:sp>
      <p:graphicFrame>
        <p:nvGraphicFramePr>
          <p:cNvPr id="97" name=""/>
          <p:cNvGraphicFramePr/>
          <p:nvPr/>
        </p:nvGraphicFramePr>
        <p:xfrm>
          <a:off x="20520" y="685800"/>
          <a:ext cx="8991720" cy="5516640"/>
        </p:xfrm>
        <a:graphic>
          <a:graphicData uri="http://schemas.openxmlformats.org/drawingml/2006/table">
            <a:tbl>
              <a:tblPr/>
              <a:tblGrid>
                <a:gridCol w="387360"/>
                <a:gridCol w="1573200"/>
                <a:gridCol w="4953240"/>
                <a:gridCol w="2077920"/>
              </a:tblGrid>
              <a:tr h="456480">
                <a:tc>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r>
              <a:tr h="2805480">
                <a:tc rowSpan="3">
                  <a:txBody>
                    <a:bodyPr lIns="5760" rIns="5760" tIns="57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endParaRPr b="0" lang="en-US" sz="2000" spc="-1" strike="noStrike">
                        <a:solidFill>
                          <a:srgbClr val="000000"/>
                        </a:solidFill>
                        <a:latin typeface="Arial"/>
                      </a:endParaRPr>
                    </a:p>
                  </a:txBody>
                  <a:tcPr anchor="t" marL="5760" marR="576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ther issues (contd)</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metimes even in shed during loco checking suddenly VCB tripped, PT got down &amp; after some time PT got raised by itself &amp; following disturbance messages logged.</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CUO:0198- Catenary Voltage out of Limits.</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CUO:0183-Power reduction line voltage</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 Power limitation 1 active (PLine)</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 Pantograph bouncing</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T has to take corrective action and to submit the action plan.</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775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n BUR data most of the time no fault is getting logged.</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Arial"/>
                        </a:rPr>
                        <a:t>Traction converter is getting isolated without any message and with message ‘L charging resistor too hot’.</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TIL make TCN VCU</a:t>
            </a:r>
            <a:endParaRPr b="0" lang="en-US" sz="3200" spc="-1" strike="noStrike">
              <a:solidFill>
                <a:srgbClr val="000000"/>
              </a:solidFill>
              <a:latin typeface="Calibri"/>
            </a:endParaRPr>
          </a:p>
        </p:txBody>
      </p:sp>
      <p:graphicFrame>
        <p:nvGraphicFramePr>
          <p:cNvPr id="99" name=""/>
          <p:cNvGraphicFramePr/>
          <p:nvPr/>
        </p:nvGraphicFramePr>
        <p:xfrm>
          <a:off x="380880" y="662040"/>
          <a:ext cx="8305920" cy="5335560"/>
        </p:xfrm>
        <a:graphic>
          <a:graphicData uri="http://schemas.openxmlformats.org/drawingml/2006/table">
            <a:tbl>
              <a:tblPr/>
              <a:tblGrid>
                <a:gridCol w="533520"/>
                <a:gridCol w="4151160"/>
                <a:gridCol w="3621240"/>
              </a:tblGrid>
              <a:tr h="52236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04904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a:t>
                      </a:r>
                      <a:endParaRPr b="0" lang="en-US" sz="20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Arial"/>
                        </a:rPr>
                        <a:t>Shunting mode message is logging only for the first insta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40" rIns="6840" tIns="6840" bIns="0" anchor="t">
                      <a:noAutofit/>
                    </a:bodyPr>
                    <a:p>
                      <a:pPr marL="47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S/RPM has informed that these problems are being faced in M/s BTIPL make propulsion system.</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37124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2.</a:t>
                      </a:r>
                      <a:endParaRPr b="0" lang="en-US" sz="20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Arial"/>
                        </a:rPr>
                        <a:t>Traction not allowed with applied brakes messages logging even at throttle ‘0’positi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Arial"/>
                        </a:rPr>
                        <a:t>Shunting speed is available up to 20 kmph but usually it is 15 kmph.</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2920">
                <a:tc>
                  <a:txBody>
                    <a:bodyPr lIns="5400" rIns="5400" tIns="54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a:t>
                      </a:r>
                      <a:endParaRPr b="0" lang="en-US" sz="20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lter contactors are not operated when note is shifted from 596 o 590. Also when throttle is 0 but speed is not 0, loco shows node 5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249A-DA35-45E8-BF13-4ACF1905E9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304920" y="2209680"/>
            <a:ext cx="8640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erformance of M/s. ABB make Converters (IG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162C-83B1-48A7-AEA3-2642AE8702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152280" y="7596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BB make Traction Converter</a:t>
            </a:r>
            <a:endParaRPr b="0" lang="en-US" sz="3200" spc="-1" strike="noStrike">
              <a:solidFill>
                <a:srgbClr val="000000"/>
              </a:solidFill>
              <a:latin typeface="Calibri"/>
            </a:endParaRPr>
          </a:p>
        </p:txBody>
      </p:sp>
      <p:pic>
        <p:nvPicPr>
          <p:cNvPr id="104" name="Object 92" descr=""/>
          <p:cNvPicPr/>
          <p:nvPr/>
        </p:nvPicPr>
        <p:blipFill>
          <a:blip r:embed="rId1"/>
          <a:stretch/>
        </p:blipFill>
        <p:spPr>
          <a:xfrm>
            <a:off x="201600" y="1143000"/>
            <a:ext cx="874080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EFF4-7B7E-4B3A-8D3A-27F3BE1437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152280" y="7596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BB make Traction Converter</a:t>
            </a:r>
            <a:br>
              <a:rPr sz="3200"/>
            </a:br>
            <a:r>
              <a:rPr b="1" lang="en-US" sz="2400" spc="-1" strike="noStrike">
                <a:solidFill>
                  <a:srgbClr val="c00000"/>
                </a:solidFill>
                <a:latin typeface="Calibri"/>
              </a:rPr>
              <a:t>(SHED WISE)</a:t>
            </a:r>
            <a:endParaRPr b="0" lang="en-US" sz="2400" spc="-1" strike="noStrike">
              <a:solidFill>
                <a:srgbClr val="000000"/>
              </a:solidFill>
              <a:latin typeface="Calibri"/>
            </a:endParaRPr>
          </a:p>
        </p:txBody>
      </p:sp>
      <p:pic>
        <p:nvPicPr>
          <p:cNvPr id="107" name="Object 93" descr=""/>
          <p:cNvPicPr/>
          <p:nvPr/>
        </p:nvPicPr>
        <p:blipFill>
          <a:blip r:embed="rId1"/>
          <a:stretch/>
        </p:blipFill>
        <p:spPr>
          <a:xfrm>
            <a:off x="76320" y="1600200"/>
            <a:ext cx="884844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7596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BB make C-DAC VCU</a:t>
            </a:r>
            <a:endParaRPr b="0" lang="en-US" sz="3200" spc="-1" strike="noStrike">
              <a:solidFill>
                <a:srgbClr val="000000"/>
              </a:solidFill>
              <a:latin typeface="Calibri"/>
            </a:endParaRPr>
          </a:p>
        </p:txBody>
      </p:sp>
      <p:graphicFrame>
        <p:nvGraphicFramePr>
          <p:cNvPr id="53" name=""/>
          <p:cNvGraphicFramePr/>
          <p:nvPr/>
        </p:nvGraphicFramePr>
        <p:xfrm>
          <a:off x="76320" y="1030320"/>
          <a:ext cx="8915400" cy="4433760"/>
        </p:xfrm>
        <a:graphic>
          <a:graphicData uri="http://schemas.openxmlformats.org/drawingml/2006/table">
            <a:tbl>
              <a:tblPr/>
              <a:tblGrid>
                <a:gridCol w="460080"/>
                <a:gridCol w="2021040"/>
                <a:gridCol w="4030560"/>
                <a:gridCol w="2403720"/>
              </a:tblGrid>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S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Ite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ction pla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Remar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82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w mismatch &amp; Life sign miss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ftware need to be modifi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e loco at ELS/RPM is running with modified software.</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erformance is under watch.</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DC: 31.03.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ab redundancy issu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ab redundancy in C-DAC based VCU to be provided in line with MICAS VC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604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C-DAC is working on this.</a:t>
                      </a:r>
                      <a:endParaRPr b="0" lang="en-US" sz="2000" spc="-1" strike="noStrike">
                        <a:solidFill>
                          <a:srgbClr val="000000"/>
                        </a:solidFill>
                        <a:latin typeface="Arial"/>
                      </a:endParaRPr>
                    </a:p>
                    <a:p>
                      <a:pPr marL="604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PDC – 20.02.2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isplay issu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ux. Converter failure data doesn’t get displayed in DD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25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Shall be discussed during meeting at ELS/HWH</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BB make Traction Converter</a:t>
            </a:r>
            <a:endParaRPr b="0" lang="en-US" sz="3200" spc="-1" strike="noStrike">
              <a:solidFill>
                <a:srgbClr val="000000"/>
              </a:solidFill>
              <a:latin typeface="Calibri"/>
            </a:endParaRPr>
          </a:p>
        </p:txBody>
      </p:sp>
      <p:graphicFrame>
        <p:nvGraphicFramePr>
          <p:cNvPr id="109" name=""/>
          <p:cNvGraphicFramePr/>
          <p:nvPr/>
        </p:nvGraphicFramePr>
        <p:xfrm>
          <a:off x="209520" y="990720"/>
          <a:ext cx="8763120" cy="3855960"/>
        </p:xfrm>
        <a:graphic>
          <a:graphicData uri="http://schemas.openxmlformats.org/drawingml/2006/table">
            <a:tbl>
              <a:tblPr/>
              <a:tblGrid>
                <a:gridCol w="452520"/>
                <a:gridCol w="1776240"/>
                <a:gridCol w="2210040"/>
                <a:gridCol w="4324320"/>
              </a:tblGrid>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S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Ite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Detail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Remar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4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ailure of PEBB modu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BB has indicated that some issues for failure of IGBT modules have been identified and resolved in SW ver-4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Regular use of Software ver-40 has been accorded in WAP-5 locos.</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Software downloaded in 4 locos of of 5 in GZB and 2 out of 8 in BRC.</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Performance under watch.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ftware malfunctioning, TE becomes 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is issue will be resolved in SW ver-4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7596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BB make Traction Converter</a:t>
            </a:r>
            <a:endParaRPr b="0" lang="en-US" sz="3200" spc="-1" strike="noStrike">
              <a:solidFill>
                <a:srgbClr val="000000"/>
              </a:solidFill>
              <a:latin typeface="Calibri"/>
            </a:endParaRPr>
          </a:p>
        </p:txBody>
      </p:sp>
      <p:graphicFrame>
        <p:nvGraphicFramePr>
          <p:cNvPr id="111" name=""/>
          <p:cNvGraphicFramePr/>
          <p:nvPr/>
        </p:nvGraphicFramePr>
        <p:xfrm>
          <a:off x="250920" y="914400"/>
          <a:ext cx="8762760" cy="5867280"/>
        </p:xfrm>
        <a:graphic>
          <a:graphicData uri="http://schemas.openxmlformats.org/drawingml/2006/table">
            <a:tbl>
              <a:tblPr/>
              <a:tblGrid>
                <a:gridCol w="452520"/>
                <a:gridCol w="1528560"/>
                <a:gridCol w="2286000"/>
                <a:gridCol w="4495680"/>
              </a:tblGrid>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S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Ite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Detail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Remar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4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New software Issues:</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ssue of ‘LC Overcurre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aximum issues are reported of LC and MC  Overcurrent.</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ssues are particularly with 1500 Amp IGB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53880" indent="-34272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ssue with the 1500 A new Hitachi make IGBTs.</a:t>
                      </a:r>
                      <a:endParaRPr b="0" lang="en-US" sz="2000" spc="-1" strike="noStrike">
                        <a:solidFill>
                          <a:srgbClr val="000000"/>
                        </a:solidFill>
                        <a:latin typeface="Arial"/>
                      </a:endParaRPr>
                    </a:p>
                    <a:p>
                      <a:pPr marL="353880" indent="-34272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irm carrying trial with version – 40. </a:t>
                      </a:r>
                      <a:endParaRPr b="0" lang="en-US" sz="2000" spc="-1" strike="noStrike">
                        <a:solidFill>
                          <a:srgbClr val="000000"/>
                        </a:solidFill>
                        <a:latin typeface="Arial"/>
                      </a:endParaRPr>
                    </a:p>
                    <a:p>
                      <a:pPr marL="353880" indent="-34272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ftware shall be ready by 20.02.201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621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olant replacement activit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s per RDSO SMI-3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locos to be modified: 70</a:t>
                      </a:r>
                      <a:endParaRPr b="0" lang="en-US" sz="2000" spc="-1" strike="noStrike">
                        <a:solidFill>
                          <a:srgbClr val="000000"/>
                        </a:solidFill>
                        <a:latin typeface="Arial"/>
                      </a:endParaRPr>
                    </a:p>
                    <a:p>
                      <a:pPr marL="343080" indent="-343080"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ocos modified:  56</a:t>
                      </a:r>
                      <a:endParaRPr b="0" lang="en-US" sz="2000" spc="-1" strike="noStrike">
                        <a:solidFill>
                          <a:srgbClr val="000000"/>
                        </a:solidFill>
                        <a:latin typeface="Arial"/>
                      </a:endParaRPr>
                    </a:p>
                    <a:p>
                      <a:pPr marL="343080" indent="-343080"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ocos to be modified:  14</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DC – 28.02.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53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oco resetting issu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hen loco resetted using VCU reset then Traction will resume only after speed becomes zer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rrective action to be submitt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4982-DD4B-4D70-A584-15C6B89C4D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228600" y="7596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BB make Aux. Converter</a:t>
            </a:r>
            <a:endParaRPr b="0" lang="en-US" sz="3200" spc="-1" strike="noStrike">
              <a:solidFill>
                <a:srgbClr val="000000"/>
              </a:solidFill>
              <a:latin typeface="Calibri"/>
            </a:endParaRPr>
          </a:p>
        </p:txBody>
      </p:sp>
      <p:pic>
        <p:nvPicPr>
          <p:cNvPr id="114" name="Object 91" descr=""/>
          <p:cNvPicPr/>
          <p:nvPr/>
        </p:nvPicPr>
        <p:blipFill>
          <a:blip r:embed="rId1"/>
          <a:stretch/>
        </p:blipFill>
        <p:spPr>
          <a:xfrm>
            <a:off x="58680" y="1523880"/>
            <a:ext cx="8933040" cy="3568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125C-BF6B-466B-9CB1-305993A77A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228600" y="7596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BB make Aux. Converter</a:t>
            </a:r>
            <a:br>
              <a:rPr sz="3200"/>
            </a:br>
            <a:r>
              <a:rPr b="1" lang="en-US" sz="2400" spc="-1" strike="noStrike">
                <a:solidFill>
                  <a:srgbClr val="c00000"/>
                </a:solidFill>
                <a:latin typeface="Calibri"/>
              </a:rPr>
              <a:t>(SHED WISE)</a:t>
            </a:r>
            <a:endParaRPr b="0" lang="en-US" sz="2400" spc="-1" strike="noStrike">
              <a:solidFill>
                <a:srgbClr val="000000"/>
              </a:solidFill>
              <a:latin typeface="Calibri"/>
            </a:endParaRPr>
          </a:p>
        </p:txBody>
      </p:sp>
      <p:pic>
        <p:nvPicPr>
          <p:cNvPr id="117" name="Object 91" descr=""/>
          <p:cNvPicPr/>
          <p:nvPr/>
        </p:nvPicPr>
        <p:blipFill>
          <a:blip r:embed="rId1"/>
          <a:stretch/>
        </p:blipFill>
        <p:spPr>
          <a:xfrm>
            <a:off x="87480" y="2362320"/>
            <a:ext cx="8953200" cy="220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6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BB make Aux. Converter</a:t>
            </a:r>
            <a:endParaRPr b="0" lang="en-US" sz="3200" spc="-1" strike="noStrike">
              <a:solidFill>
                <a:srgbClr val="000000"/>
              </a:solidFill>
              <a:latin typeface="Calibri"/>
            </a:endParaRPr>
          </a:p>
        </p:txBody>
      </p:sp>
      <p:graphicFrame>
        <p:nvGraphicFramePr>
          <p:cNvPr id="119" name=""/>
          <p:cNvGraphicFramePr/>
          <p:nvPr/>
        </p:nvGraphicFramePr>
        <p:xfrm>
          <a:off x="76320" y="669960"/>
          <a:ext cx="8915400" cy="6091200"/>
        </p:xfrm>
        <a:graphic>
          <a:graphicData uri="http://schemas.openxmlformats.org/drawingml/2006/table">
            <a:tbl>
              <a:tblPr/>
              <a:tblGrid>
                <a:gridCol w="460080"/>
                <a:gridCol w="1749600"/>
                <a:gridCol w="3505320"/>
                <a:gridCol w="3200400"/>
              </a:tblGrid>
              <a:tr h="336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te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Detai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Remar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99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ailure of IGBT modu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ailure of IGBT modules of BUR. Earthing to be done as per GTO locomotiv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Total locos to be modified: 39</a:t>
                      </a:r>
                      <a:endParaRPr b="0" lang="en-US" sz="1800" spc="-1" strike="noStrike">
                        <a:solidFill>
                          <a:srgbClr val="000000"/>
                        </a:solidFill>
                        <a:latin typeface="Arial"/>
                      </a:endParaRPr>
                    </a:p>
                    <a:p>
                      <a:pPr marL="343080" indent="-343080"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Locos modified:  32</a:t>
                      </a:r>
                      <a:endParaRPr b="0" lang="en-US" sz="1800" spc="-1" strike="noStrike">
                        <a:solidFill>
                          <a:srgbClr val="000000"/>
                        </a:solidFill>
                        <a:latin typeface="Arial"/>
                      </a:endParaRPr>
                    </a:p>
                    <a:p>
                      <a:pPr marL="343080" indent="-343080"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Locos to be modified:  7</a:t>
                      </a:r>
                      <a:endParaRPr b="0" lang="en-US" sz="1800" spc="-1" strike="noStrike">
                        <a:solidFill>
                          <a:srgbClr val="000000"/>
                        </a:solidFill>
                        <a:latin typeface="Arial"/>
                      </a:endParaRPr>
                    </a:p>
                    <a:p>
                      <a:pPr marL="343080" indent="-34308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BRC-30076, TKD-31777, RPM-30479, TKD-31405, 31406, 31477, 31481.</a:t>
                      </a:r>
                      <a:endParaRPr b="0" lang="en-US" sz="1800" spc="-1" strike="noStrike">
                        <a:solidFill>
                          <a:srgbClr val="000000"/>
                        </a:solidFill>
                        <a:latin typeface="Arial"/>
                      </a:endParaRPr>
                    </a:p>
                    <a:p>
                      <a:pPr marL="343080" indent="-34308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PDC: 15.03.1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row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Battery charger failur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uxiliary converter failure due to CHBA stops working sometimes &amp; load shifting doesn’t take place from BUR-3.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BB has to take corrective action.</a:t>
                      </a:r>
                      <a:r>
                        <a:rPr b="0" lang="en-IN" sz="1800" spc="-1" strike="noStrike">
                          <a:solidFill>
                            <a:srgbClr val="000000"/>
                          </a:solidFill>
                          <a:latin typeface="Calibri"/>
                          <a:ea typeface="Calibri"/>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uxiliary converter failure due to CHBA DC link capacitor burst/CHBA defective, Chopper circuit burnt &amp; input fuse mel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Shall be discussed during meeting at ELS/HW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Battery charger not working at tim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Software updated and loaded. Under obser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FDBA-AB7A-4EC6-A8F5-ADCE60FBD6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304920" y="2209680"/>
            <a:ext cx="8640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erformance of M/s. CGL make Converters (IG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2520" y="17640"/>
            <a:ext cx="226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Traction Converter</a:t>
            </a:r>
            <a:endParaRPr b="0" lang="en-US" sz="3200" spc="-1" strike="noStrike">
              <a:solidFill>
                <a:srgbClr val="000000"/>
              </a:solidFill>
              <a:latin typeface="Calibri"/>
            </a:endParaRPr>
          </a:p>
        </p:txBody>
      </p:sp>
      <p:pic>
        <p:nvPicPr>
          <p:cNvPr id="124" name="Object 88" descr=""/>
          <p:cNvPicPr/>
          <p:nvPr/>
        </p:nvPicPr>
        <p:blipFill>
          <a:blip r:embed="rId1"/>
          <a:stretch/>
        </p:blipFill>
        <p:spPr>
          <a:xfrm>
            <a:off x="228600" y="1523880"/>
            <a:ext cx="8799480" cy="32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2520" y="17640"/>
            <a:ext cx="226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1"/>
          <p:cNvSpPr>
            <a:spLocks noGrp="1"/>
          </p:cNvSpPr>
          <p:nvPr>
            <p:ph type="title"/>
          </p:nvPr>
        </p:nvSpPr>
        <p:spPr>
          <a:xfrm>
            <a:off x="-360" y="19800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Traction Converter</a:t>
            </a:r>
            <a:br>
              <a:rPr sz="3200"/>
            </a:br>
            <a:r>
              <a:rPr b="1" lang="en-US" sz="2400" spc="-1" strike="noStrike">
                <a:solidFill>
                  <a:srgbClr val="c00000"/>
                </a:solidFill>
                <a:latin typeface="Calibri"/>
              </a:rPr>
              <a:t>(SHED WISE)</a:t>
            </a:r>
            <a:endParaRPr b="0" lang="en-US" sz="2400" spc="-1" strike="noStrike">
              <a:solidFill>
                <a:srgbClr val="000000"/>
              </a:solidFill>
              <a:latin typeface="Calibri"/>
            </a:endParaRPr>
          </a:p>
        </p:txBody>
      </p:sp>
      <p:pic>
        <p:nvPicPr>
          <p:cNvPr id="127" name="Object 88" descr=""/>
          <p:cNvPicPr/>
          <p:nvPr/>
        </p:nvPicPr>
        <p:blipFill>
          <a:blip r:embed="rId1"/>
          <a:stretch/>
        </p:blipFill>
        <p:spPr>
          <a:xfrm>
            <a:off x="355680" y="2057400"/>
            <a:ext cx="8559720" cy="3124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Traction Converter</a:t>
            </a:r>
            <a:endParaRPr b="0" lang="en-US" sz="3200" spc="-1" strike="noStrike">
              <a:solidFill>
                <a:srgbClr val="000000"/>
              </a:solidFill>
              <a:latin typeface="Calibri"/>
            </a:endParaRPr>
          </a:p>
        </p:txBody>
      </p:sp>
      <p:graphicFrame>
        <p:nvGraphicFramePr>
          <p:cNvPr id="129" name=""/>
          <p:cNvGraphicFramePr/>
          <p:nvPr/>
        </p:nvGraphicFramePr>
        <p:xfrm>
          <a:off x="380880" y="1257480"/>
          <a:ext cx="8305920" cy="3619440"/>
        </p:xfrm>
        <a:graphic>
          <a:graphicData uri="http://schemas.openxmlformats.org/drawingml/2006/table">
            <a:tbl>
              <a:tblPr/>
              <a:tblGrid>
                <a:gridCol w="569880"/>
                <a:gridCol w="1801800"/>
                <a:gridCol w="2594160"/>
                <a:gridCol w="3340080"/>
              </a:tblGrid>
              <a:tr h="357840">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5724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tem</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pla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emark</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3263040">
                <a:tc>
                  <a:txBody>
                    <a:bodyPr lIns="6840" rIns="6840" tIns="6840" bIns="0" anchor="t">
                      <a:noAutofit/>
                    </a:bodyPr>
                    <a:p>
                      <a:pPr marL="343080" indent="-343080" algn="ctr">
                        <a:lnSpc>
                          <a:spcPct val="115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ailure of power module &amp; their connector</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932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GL has proposed to modify the modules with bus-bar type arrangement in place of existing arrangement. </a:t>
                      </a:r>
                      <a:endParaRPr b="0" lang="en-US" sz="2000" spc="-1" strike="noStrike">
                        <a:solidFill>
                          <a:srgbClr val="000000"/>
                        </a:solidFill>
                        <a:latin typeface="Arial"/>
                      </a:endParaRPr>
                    </a:p>
                    <a:p>
                      <a:pPr marL="4932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Mangal"/>
                        </a:rPr>
                        <a:t>Total locos to be modified: 69</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Mangal"/>
                        </a:rPr>
                        <a:t>Locos already modified: 42 </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Mangal"/>
                        </a:rPr>
                        <a:t>Locos still to be modified: 27 (BNDM-8, GMO-10, LDH-01, NKJ-07, KZJ-01)</a:t>
                      </a:r>
                      <a:endParaRPr b="0" lang="en-US" sz="2000" spc="-1" strike="noStrike">
                        <a:solidFill>
                          <a:srgbClr val="000000"/>
                        </a:solidFill>
                        <a:latin typeface="Arial"/>
                      </a:endParaRPr>
                    </a:p>
                    <a:p>
                      <a:pPr marL="343080" indent="-34308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rate of modification is too slow. M/s CGL to expedite the same at the earliest.</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PDC – 31.03.2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Traction Converter</a:t>
            </a:r>
            <a:endParaRPr b="0" lang="en-US" sz="3200" spc="-1" strike="noStrike">
              <a:solidFill>
                <a:srgbClr val="000000"/>
              </a:solidFill>
              <a:latin typeface="Calibri"/>
            </a:endParaRPr>
          </a:p>
        </p:txBody>
      </p:sp>
      <p:graphicFrame>
        <p:nvGraphicFramePr>
          <p:cNvPr id="131" name=""/>
          <p:cNvGraphicFramePr/>
          <p:nvPr/>
        </p:nvGraphicFramePr>
        <p:xfrm>
          <a:off x="152280" y="784080"/>
          <a:ext cx="8839440" cy="4702320"/>
        </p:xfrm>
        <a:graphic>
          <a:graphicData uri="http://schemas.openxmlformats.org/drawingml/2006/table">
            <a:tbl>
              <a:tblPr/>
              <a:tblGrid>
                <a:gridCol w="606600"/>
                <a:gridCol w="1917720"/>
                <a:gridCol w="4287600"/>
                <a:gridCol w="2027520"/>
              </a:tblGrid>
              <a:tr h="432000">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5724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tem</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pla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emark</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4270320">
                <a:tc>
                  <a:txBody>
                    <a:bodyPr lIns="6840" rIns="6840" tIns="684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2. </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Software  issu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s with Software version 0023:</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Isolation of Traction bogie 1 &amp; 2 with message ‘Time out NSC pulse Bogie1/ Bogie2’.</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Some times after MCE OFF/ON isolation of Traction bogie 1 and 2 with message ‘Time out ALG test2 end Bogie1/Bogie2’.</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Vbus Ma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Modified software </a:t>
                      </a:r>
                      <a:r>
                        <a:rPr b="0" lang="en-US" sz="1800" spc="-1" strike="noStrike">
                          <a:solidFill>
                            <a:srgbClr val="000000"/>
                          </a:solidFill>
                          <a:latin typeface="Calibri"/>
                        </a:rPr>
                        <a:t>ver. 25 beta 04 </a:t>
                      </a:r>
                      <a:r>
                        <a:rPr b="0" lang="en-IN" sz="1800" spc="-1" strike="noStrike">
                          <a:solidFill>
                            <a:srgbClr val="000000"/>
                          </a:solidFill>
                          <a:latin typeface="Calibri"/>
                          <a:ea typeface="Times New Roman"/>
                        </a:rPr>
                        <a:t>provided in locomotive no. </a:t>
                      </a:r>
                      <a:r>
                        <a:rPr b="0" lang="en-US" sz="1800" spc="-1" strike="noStrike">
                          <a:solidFill>
                            <a:srgbClr val="000000"/>
                          </a:solidFill>
                          <a:latin typeface="Calibri"/>
                          <a:ea typeface="Times New Roman"/>
                        </a:rPr>
                        <a:t>39001, 39002, 39004 &amp; 30680 of ELS/RPM Performance is under monito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7596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BB make C-DAC VCU</a:t>
            </a:r>
            <a:endParaRPr b="0" lang="en-US" sz="3200" spc="-1" strike="noStrike">
              <a:solidFill>
                <a:srgbClr val="000000"/>
              </a:solidFill>
              <a:latin typeface="Calibri"/>
            </a:endParaRPr>
          </a:p>
        </p:txBody>
      </p:sp>
      <p:graphicFrame>
        <p:nvGraphicFramePr>
          <p:cNvPr id="55" name=""/>
          <p:cNvGraphicFramePr/>
          <p:nvPr/>
        </p:nvGraphicFramePr>
        <p:xfrm>
          <a:off x="76320" y="1030320"/>
          <a:ext cx="8076960" cy="4486320"/>
        </p:xfrm>
        <a:graphic>
          <a:graphicData uri="http://schemas.openxmlformats.org/drawingml/2006/table">
            <a:tbl>
              <a:tblPr/>
              <a:tblGrid>
                <a:gridCol w="571320"/>
                <a:gridCol w="2263680"/>
                <a:gridCol w="5241960"/>
              </a:tblGrid>
              <a:tr h="336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te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Detai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rror messag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Following error messages getting logged in C-DAC VCU on regular basis (&amp; sometimes TBG gets isolated):-</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SLG1:0137-MC2 Boggie-1 Isolated</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SLG2:0129-Dist In speed sensor Motor-3</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SLG1:0017-Conv Coolant flow &lt; Limit</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SLG1:0107-Dist.In speed sensor Motor-1</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SLG1:0118-Dist In speed sensor Motor-2</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SLG1:0136-MC1 Boggie-1 Isolat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nreliable indic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Trafo, SR &amp; AUX CON parameter (voltage, current , frequency &amp; pressure) displayed in DDU are inconsistent &amp; unreliable for trouble shooting &amp; indication point of view.</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Traction Converter</a:t>
            </a:r>
            <a:endParaRPr b="0" lang="en-US" sz="3200" spc="-1" strike="noStrike">
              <a:solidFill>
                <a:srgbClr val="000000"/>
              </a:solidFill>
              <a:latin typeface="Calibri"/>
            </a:endParaRPr>
          </a:p>
        </p:txBody>
      </p:sp>
      <p:graphicFrame>
        <p:nvGraphicFramePr>
          <p:cNvPr id="133" name=""/>
          <p:cNvGraphicFramePr/>
          <p:nvPr/>
        </p:nvGraphicFramePr>
        <p:xfrm>
          <a:off x="380880" y="784080"/>
          <a:ext cx="8305920" cy="4291200"/>
        </p:xfrm>
        <a:graphic>
          <a:graphicData uri="http://schemas.openxmlformats.org/drawingml/2006/table">
            <a:tbl>
              <a:tblPr/>
              <a:tblGrid>
                <a:gridCol w="569880"/>
                <a:gridCol w="1487520"/>
                <a:gridCol w="2895840"/>
                <a:gridCol w="3352680"/>
              </a:tblGrid>
              <a:tr h="433800">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5724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tem</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pla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emark</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3857400">
                <a:tc>
                  <a:txBody>
                    <a:bodyPr lIns="6840" rIns="6840" tIns="684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 </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Issues with UTIZEN CPU electronic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o reduce the booting time. The problem of isolation of motors/bogie, non-logging of fault data in line with the VCU data could not be set right so far on converters with UTIZEN electronics.</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GPISL is having 14 locomotives converters of UTGEN typ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s CGL has been impressed upon  to replace the UTIZEN electronics with new VEGA electronics as there are several software issues which could not be solv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s CGL will revert back by 15.02.2019.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Traction Converter</a:t>
            </a:r>
            <a:endParaRPr b="0" lang="en-US" sz="3200" spc="-1" strike="noStrike">
              <a:solidFill>
                <a:srgbClr val="000000"/>
              </a:solidFill>
              <a:latin typeface="Calibri"/>
            </a:endParaRPr>
          </a:p>
        </p:txBody>
      </p:sp>
      <p:graphicFrame>
        <p:nvGraphicFramePr>
          <p:cNvPr id="135" name=""/>
          <p:cNvGraphicFramePr/>
          <p:nvPr/>
        </p:nvGraphicFramePr>
        <p:xfrm>
          <a:off x="76320" y="784080"/>
          <a:ext cx="8991360" cy="4213440"/>
        </p:xfrm>
        <a:graphic>
          <a:graphicData uri="http://schemas.openxmlformats.org/drawingml/2006/table">
            <a:tbl>
              <a:tblPr/>
              <a:tblGrid>
                <a:gridCol w="617400"/>
                <a:gridCol w="2104920"/>
                <a:gridCol w="3051360"/>
                <a:gridCol w="3217680"/>
              </a:tblGrid>
              <a:tr h="357840">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5724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tem</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pla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emark</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2454840">
                <a:tc>
                  <a:txBody>
                    <a:bodyPr lIns="6840" rIns="6840" tIns="684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 </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E / BE reduces to zero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r this CGPISL requires uploading the solution in two locomotives at ELS/RPM for few days to collect the data and tuned the parameter.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odified software has been uploaded in loco nos. 30680, 39001, 39002 &amp; 39004 of ELS/RPM.</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erformance is under observati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02920">
                <a:tc>
                  <a:txBody>
                    <a:bodyPr lIns="6840" rIns="6840" tIns="684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Failure of modified X24 Card (Analogue I/0 car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vestigation report along with action plan to be submitt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s CGL stated that they will submit the same by 20.02.2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Traction Converter</a:t>
            </a:r>
            <a:endParaRPr b="0" lang="en-US" sz="3200" spc="-1" strike="noStrike">
              <a:solidFill>
                <a:srgbClr val="000000"/>
              </a:solidFill>
              <a:latin typeface="Calibri"/>
            </a:endParaRPr>
          </a:p>
        </p:txBody>
      </p:sp>
      <p:graphicFrame>
        <p:nvGraphicFramePr>
          <p:cNvPr id="137" name=""/>
          <p:cNvGraphicFramePr/>
          <p:nvPr/>
        </p:nvGraphicFramePr>
        <p:xfrm>
          <a:off x="76320" y="784080"/>
          <a:ext cx="8991360" cy="6072480"/>
        </p:xfrm>
        <a:graphic>
          <a:graphicData uri="http://schemas.openxmlformats.org/drawingml/2006/table">
            <a:tbl>
              <a:tblPr/>
              <a:tblGrid>
                <a:gridCol w="617400"/>
                <a:gridCol w="2104920"/>
                <a:gridCol w="3051360"/>
                <a:gridCol w="3217680"/>
              </a:tblGrid>
              <a:tr h="357840">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5724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tem</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pla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emark</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5717880">
                <a:tc>
                  <a:txBody>
                    <a:bodyPr lIns="6840" rIns="6840" tIns="684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6. </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 failure of balancing resisto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400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issue is with Kiyosh make resisters. The failure is due to overheating of resister and its outer cover is getting cracked. </a:t>
                      </a:r>
                      <a:endParaRPr b="0" lang="en-US" sz="2000" spc="-1" strike="noStrike">
                        <a:solidFill>
                          <a:srgbClr val="000000"/>
                        </a:solidFill>
                        <a:latin typeface="Arial"/>
                      </a:endParaRPr>
                    </a:p>
                    <a:p>
                      <a:pPr marL="5400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s CGL shall replace Kiyosh make resisters with HVR Pentagon make resistor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916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istor </a:t>
                      </a:r>
                      <a:r>
                        <a:rPr b="0" lang="en-US" sz="2000" spc="-1" strike="noStrike">
                          <a:solidFill>
                            <a:srgbClr val="000000"/>
                          </a:solidFill>
                          <a:latin typeface="Calibri"/>
                          <a:ea typeface="Times New Roman"/>
                        </a:rPr>
                        <a:t>with increased diameter from 54mm to 80mm has been provided in one loco no. 30693 of ELS/RPM. 4 locos are balance.</a:t>
                      </a:r>
                      <a:endParaRPr b="0" lang="en-US" sz="2000" spc="-1" strike="noStrike">
                        <a:solidFill>
                          <a:srgbClr val="000000"/>
                        </a:solidFill>
                        <a:latin typeface="Arial"/>
                      </a:endParaRPr>
                    </a:p>
                    <a:p>
                      <a:pPr marL="11916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wo resistors of 1.95K Ohm each in cascaded in place of single resistor (3.91K Ohm) has been added in two locos no. 30577 &amp; 39000 of ELS/RPM. 3 more locos are balance for this modification.</a:t>
                      </a:r>
                      <a:endParaRPr b="0" lang="en-US" sz="2000" spc="-1" strike="noStrike">
                        <a:solidFill>
                          <a:srgbClr val="000000"/>
                        </a:solidFill>
                        <a:latin typeface="Arial"/>
                      </a:endParaRPr>
                    </a:p>
                    <a:p>
                      <a:pPr marL="11916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DC – 28.02.2019</a:t>
                      </a:r>
                      <a:endParaRPr b="0" lang="en-US" sz="2000" spc="-1" strike="noStrike">
                        <a:solidFill>
                          <a:srgbClr val="000000"/>
                        </a:solidFill>
                        <a:latin typeface="Arial"/>
                      </a:endParaRPr>
                    </a:p>
                    <a:p>
                      <a:pPr marL="11916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urther decision will be taken after satisfactory performance</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Traction Converter</a:t>
            </a:r>
            <a:endParaRPr b="0" lang="en-US" sz="3200" spc="-1" strike="noStrike">
              <a:solidFill>
                <a:srgbClr val="000000"/>
              </a:solidFill>
              <a:latin typeface="Calibri"/>
            </a:endParaRPr>
          </a:p>
        </p:txBody>
      </p:sp>
      <p:graphicFrame>
        <p:nvGraphicFramePr>
          <p:cNvPr id="139" name=""/>
          <p:cNvGraphicFramePr/>
          <p:nvPr/>
        </p:nvGraphicFramePr>
        <p:xfrm>
          <a:off x="533520" y="1143000"/>
          <a:ext cx="7924680" cy="4233960"/>
        </p:xfrm>
        <a:graphic>
          <a:graphicData uri="http://schemas.openxmlformats.org/drawingml/2006/table">
            <a:tbl>
              <a:tblPr/>
              <a:tblGrid>
                <a:gridCol w="650880"/>
                <a:gridCol w="2571480"/>
                <a:gridCol w="4702320"/>
              </a:tblGrid>
              <a:tr h="357840">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5724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tem</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pla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2111040">
                <a:tc>
                  <a:txBody>
                    <a:bodyPr lIns="6840" rIns="6840" tIns="684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7.</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ludge formation even after flushing &amp; filling up of coolant as per SMI-03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119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tion of sludge has been experienced in 3 locomotives (Loco No. 31739, 31742 &amp; 31917) by ELS/BNDM even after replacement of coolant of M/s Chemtex make with coolant of M/s Clariant make as per RDSO SMI 325.</a:t>
                      </a:r>
                      <a:r>
                        <a:rPr b="0" lang="en-US" sz="2000" spc="-1" strike="noStrike">
                          <a:solidFill>
                            <a:srgbClr val="000000"/>
                          </a:solidFill>
                          <a:latin typeface="Calibri"/>
                          <a:ea typeface="Times New Roman"/>
                        </a:rPr>
                        <a:t>.</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059120">
                <a:tc>
                  <a:txBody>
                    <a:bodyPr lIns="6840" rIns="6840" tIns="684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8.</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ampant failures of Speed sensors of M/s Jaquet mak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mpant failures of Speed sensors of M/s Jaquet &amp; M/s Laxven make are being experienced.</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708480">
                <a:tc>
                  <a:txBody>
                    <a:bodyPr lIns="6840" rIns="6840" tIns="684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9.</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572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olation of both bogies.</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bogies are getting isolated without fault messages at times.</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Traction Converter</a:t>
            </a:r>
            <a:endParaRPr b="0" lang="en-US" sz="3200" spc="-1" strike="noStrike">
              <a:solidFill>
                <a:srgbClr val="000000"/>
              </a:solidFill>
              <a:latin typeface="Calibri"/>
            </a:endParaRPr>
          </a:p>
        </p:txBody>
      </p:sp>
      <p:graphicFrame>
        <p:nvGraphicFramePr>
          <p:cNvPr id="141" name=""/>
          <p:cNvGraphicFramePr/>
          <p:nvPr/>
        </p:nvGraphicFramePr>
        <p:xfrm>
          <a:off x="380880" y="1295280"/>
          <a:ext cx="8382240" cy="4861080"/>
        </p:xfrm>
        <a:graphic>
          <a:graphicData uri="http://schemas.openxmlformats.org/drawingml/2006/table">
            <a:tbl>
              <a:tblPr/>
              <a:tblGrid>
                <a:gridCol w="689040"/>
                <a:gridCol w="2282760"/>
                <a:gridCol w="5410440"/>
              </a:tblGrid>
              <a:tr h="357480">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5724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tem</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Details</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4503600">
                <a:tc>
                  <a:txBody>
                    <a:bodyPr lIns="6840" rIns="6840" tIns="684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Software issu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When any motor gets isolated, corresponding popup message of isolation does not get displayed. However, message is logged in DDS. </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Spurious messages of “Info: SLG has received a shutdown command” messages are getting logged in SR data.</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When transformer oil pump MCB is tripped manually, then message of oil temperature high appears instantly without increase in oil temperature.</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VCB stuck-up messages are more frequently coming after passing neutral section.</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SR isolation due to multiple life sign missing from MVB is frequent.</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bogies are getting isolated without fault messages at times.</a:t>
                      </a:r>
                      <a:endParaRPr b="0" lang="en-US" sz="18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2520" y="17640"/>
            <a:ext cx="226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Aux. Converter</a:t>
            </a:r>
            <a:endParaRPr b="0" lang="en-US" sz="3200" spc="-1" strike="noStrike">
              <a:solidFill>
                <a:srgbClr val="000000"/>
              </a:solidFill>
              <a:latin typeface="Calibri"/>
            </a:endParaRPr>
          </a:p>
        </p:txBody>
      </p:sp>
      <p:pic>
        <p:nvPicPr>
          <p:cNvPr id="144" name="Object 89" descr=""/>
          <p:cNvPicPr/>
          <p:nvPr/>
        </p:nvPicPr>
        <p:blipFill>
          <a:blip r:embed="rId1"/>
          <a:stretch/>
        </p:blipFill>
        <p:spPr>
          <a:xfrm>
            <a:off x="152280" y="1828800"/>
            <a:ext cx="8839440" cy="2971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2520" y="17640"/>
            <a:ext cx="226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PlaceHolder 1"/>
          <p:cNvSpPr>
            <a:spLocks noGrp="1"/>
          </p:cNvSpPr>
          <p:nvPr>
            <p:ph type="title"/>
          </p:nvPr>
        </p:nvSpPr>
        <p:spPr>
          <a:xfrm>
            <a:off x="-360" y="19800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Aux. Converter</a:t>
            </a:r>
            <a:br>
              <a:rPr sz="3200"/>
            </a:br>
            <a:r>
              <a:rPr b="1" lang="en-US" sz="2400" spc="-1" strike="noStrike">
                <a:solidFill>
                  <a:srgbClr val="c00000"/>
                </a:solidFill>
                <a:latin typeface="Calibri"/>
              </a:rPr>
              <a:t>(SHED WISE)</a:t>
            </a:r>
            <a:endParaRPr b="0" lang="en-US" sz="2400" spc="-1" strike="noStrike">
              <a:solidFill>
                <a:srgbClr val="000000"/>
              </a:solidFill>
              <a:latin typeface="Calibri"/>
            </a:endParaRPr>
          </a:p>
        </p:txBody>
      </p:sp>
      <p:pic>
        <p:nvPicPr>
          <p:cNvPr id="147" name="Object 89" descr=""/>
          <p:cNvPicPr/>
          <p:nvPr/>
        </p:nvPicPr>
        <p:blipFill>
          <a:blip r:embed="rId1"/>
          <a:stretch/>
        </p:blipFill>
        <p:spPr>
          <a:xfrm>
            <a:off x="22320" y="2209680"/>
            <a:ext cx="8926560" cy="2057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Aux. Converter</a:t>
            </a:r>
            <a:endParaRPr b="0" lang="en-US" sz="3200" spc="-1" strike="noStrike">
              <a:solidFill>
                <a:srgbClr val="000000"/>
              </a:solidFill>
              <a:latin typeface="Calibri"/>
            </a:endParaRPr>
          </a:p>
        </p:txBody>
      </p:sp>
      <p:graphicFrame>
        <p:nvGraphicFramePr>
          <p:cNvPr id="149" name=""/>
          <p:cNvGraphicFramePr/>
          <p:nvPr/>
        </p:nvGraphicFramePr>
        <p:xfrm>
          <a:off x="152280" y="762120"/>
          <a:ext cx="8915400" cy="6078240"/>
        </p:xfrm>
        <a:graphic>
          <a:graphicData uri="http://schemas.openxmlformats.org/drawingml/2006/table">
            <a:tbl>
              <a:tblPr/>
              <a:tblGrid>
                <a:gridCol w="460440"/>
                <a:gridCol w="1673280"/>
                <a:gridCol w="3352680"/>
                <a:gridCol w="3429000"/>
              </a:tblGrid>
              <a:tr h="390600">
                <a:tc>
                  <a:txBody>
                    <a:bodyPr lIns="64080" rIns="6408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ion plan</a:t>
                      </a:r>
                      <a:endParaRPr b="0" lang="en-US" sz="20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noFill/>
                  </a:tcPr>
                </a:tc>
              </a:tr>
              <a:tr h="210420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odification in the INVCC and CCPU card.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till card failures are there. The card failures are with message battery charger current less than 10 Amp and BUR current greater than maximum and inverter faul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irm has modified the software and provided modified software in Five locomotives each at four locations RPM, TKD, HWH and GMO. </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ocomotive numbers are as given below. </a:t>
                      </a:r>
                      <a:endParaRPr b="0" lang="en-US" sz="20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HWH- 30305, 30506, 30454, 30503, 30455. </a:t>
                      </a:r>
                      <a:endParaRPr b="0" lang="en-US" sz="20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PM</a:t>
                      </a:r>
                      <a:r>
                        <a:rPr b="0" lang="en-IN" sz="2000" spc="-1" strike="noStrike">
                          <a:solidFill>
                            <a:srgbClr val="000000"/>
                          </a:solidFill>
                          <a:latin typeface="Calibri"/>
                          <a:ea typeface="Times New Roman"/>
                        </a:rPr>
                        <a:t> - 30679, 30680, 39004, 30678, 30675 </a:t>
                      </a:r>
                      <a:endParaRPr b="0" lang="en-US" sz="20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GMO - 31267, 37047, 31316, 32153, 32074, 31596, 32152 </a:t>
                      </a:r>
                      <a:endParaRPr b="0" lang="en-US" sz="20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KD - 30653, 30683, 30451, 30637, 32200, 3154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5356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UR current greater than Maximum still to be resolved.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GL has modified software and downloaded in five (05) locos each at ELS/HWH, RPM, GMO &amp; TKD.</a:t>
                      </a:r>
                      <a:endParaRPr b="0" lang="en-US" sz="2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erformance under watch.</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988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t>
                      </a:r>
                      <a:r>
                        <a:rPr b="0" lang="en-US" sz="2000" spc="-1" strike="noStrike">
                          <a:solidFill>
                            <a:srgbClr val="000000"/>
                          </a:solidFill>
                          <a:latin typeface="Calibri"/>
                          <a:ea typeface="Times New Roman"/>
                        </a:rPr>
                        <a:t>Battery charger current below 10A is still unresolved.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GL has modified software and downloaded in five (05) locos each at ELS/HWH, RPM, GMO &amp; TKD.</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erformance under watch.</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Aux. Converter</a:t>
            </a:r>
            <a:endParaRPr b="0" lang="en-US" sz="3200" spc="-1" strike="noStrike">
              <a:solidFill>
                <a:srgbClr val="000000"/>
              </a:solidFill>
              <a:latin typeface="Calibri"/>
            </a:endParaRPr>
          </a:p>
        </p:txBody>
      </p:sp>
      <p:graphicFrame>
        <p:nvGraphicFramePr>
          <p:cNvPr id="151" name=""/>
          <p:cNvGraphicFramePr/>
          <p:nvPr/>
        </p:nvGraphicFramePr>
        <p:xfrm>
          <a:off x="152280" y="990720"/>
          <a:ext cx="8839440" cy="5033880"/>
        </p:xfrm>
        <a:graphic>
          <a:graphicData uri="http://schemas.openxmlformats.org/drawingml/2006/table">
            <a:tbl>
              <a:tblPr/>
              <a:tblGrid>
                <a:gridCol w="457200"/>
                <a:gridCol w="2133720"/>
                <a:gridCol w="3657600"/>
                <a:gridCol w="2590920"/>
              </a:tblGrid>
              <a:tr h="474840">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315612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uxiliary Converter over current issu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fter neutral section, the frequency ramps down and takes near about 10 seconds to reach zero frequency. If driver close DJ within 5 seconds before frequency coming down below 35 Hz, auxiliary converter over current message appears and immediately DJ trip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GPSIL has to study the issue and propose the solution by 20.02.2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0292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CB-100 trip message pop-up issu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CB-100 (Battery charger MCB) trips and message not Pop-up on DDU. Due to this battery gets run down on lin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GL to submit the investigation report and action pla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Aux. Converter</a:t>
            </a:r>
            <a:endParaRPr b="0" lang="en-US" sz="3200" spc="-1" strike="noStrike">
              <a:solidFill>
                <a:srgbClr val="000000"/>
              </a:solidFill>
              <a:latin typeface="Calibri"/>
            </a:endParaRPr>
          </a:p>
        </p:txBody>
      </p:sp>
      <p:graphicFrame>
        <p:nvGraphicFramePr>
          <p:cNvPr id="153" name=""/>
          <p:cNvGraphicFramePr/>
          <p:nvPr/>
        </p:nvGraphicFramePr>
        <p:xfrm>
          <a:off x="152280" y="990720"/>
          <a:ext cx="7391520" cy="2136600"/>
        </p:xfrm>
        <a:graphic>
          <a:graphicData uri="http://schemas.openxmlformats.org/drawingml/2006/table">
            <a:tbl>
              <a:tblPr/>
              <a:tblGrid>
                <a:gridCol w="541440"/>
                <a:gridCol w="1622520"/>
                <a:gridCol w="5227560"/>
              </a:tblGrid>
              <a:tr h="365040">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682560">
                <a:tc rowSpan="2">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issu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ate and time format &amp; value gets corrupted in fault data of AUX CON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UR parameters are either not available or are erratic &amp; unreliable in DD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igh failure rates of the auxiliary machin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3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C-DAC VCU</a:t>
            </a:r>
            <a:endParaRPr b="0" lang="en-US" sz="3200" spc="-1" strike="noStrike">
              <a:solidFill>
                <a:srgbClr val="000000"/>
              </a:solidFill>
              <a:latin typeface="Calibri"/>
            </a:endParaRPr>
          </a:p>
        </p:txBody>
      </p:sp>
      <p:graphicFrame>
        <p:nvGraphicFramePr>
          <p:cNvPr id="57" name=""/>
          <p:cNvGraphicFramePr/>
          <p:nvPr/>
        </p:nvGraphicFramePr>
        <p:xfrm>
          <a:off x="152280" y="593640"/>
          <a:ext cx="8458200" cy="6222960"/>
        </p:xfrm>
        <a:graphic>
          <a:graphicData uri="http://schemas.openxmlformats.org/drawingml/2006/table">
            <a:tbl>
              <a:tblPr/>
              <a:tblGrid>
                <a:gridCol w="507960"/>
                <a:gridCol w="2114640"/>
                <a:gridCol w="5835600"/>
              </a:tblGrid>
              <a:tr h="478080">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574488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ftware issu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sues yet to be resolved</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Life sign missing from all Processors</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Wrong sensing of Speed : FLG1:0020- Emergency Vigilance Brake</a:t>
                      </a:r>
                      <a:br>
                        <a:rPr sz="1800"/>
                      </a:br>
                      <a:r>
                        <a:rPr b="0" lang="en-IN" sz="1800" spc="-1" strike="noStrike">
                          <a:solidFill>
                            <a:srgbClr val="000000"/>
                          </a:solidFill>
                          <a:latin typeface="Calibri"/>
                        </a:rPr>
                        <a:t>Loco not moving due to TE/BE reads “ZERO”</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Life sign missing from various subsystem and processor card.</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Non formation of multiple unit with same cab i.e. cab1 to cab1 and cab2 to cab2.</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Wrong panto sequence while activating locomotive from Cab-2 (Pantograph of unoccupied cab of both the locos rising), while it was normal from cab-1.</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Non- display of Node information of Master loco in the DDU of slave loco.</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Display of spurious messages in the DDU-‘Angle Transmitter fail, More than one cab occupied, Emergency stop- shut down, Train bus disturbance slave, Simulation fault etc.</a:t>
                      </a: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2C2C-CCEB-4715-82E9-9A7C877E11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304920" y="2209680"/>
            <a:ext cx="8640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erformance of M/s. Medha make Propulsion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Medha make Propulsion</a:t>
            </a:r>
            <a:endParaRPr b="0" lang="en-US" sz="3200" spc="-1" strike="noStrike">
              <a:solidFill>
                <a:srgbClr val="000000"/>
              </a:solidFill>
              <a:latin typeface="Calibri"/>
            </a:endParaRPr>
          </a:p>
        </p:txBody>
      </p:sp>
      <p:pic>
        <p:nvPicPr>
          <p:cNvPr id="157" name="Object 88" descr=""/>
          <p:cNvPicPr/>
          <p:nvPr/>
        </p:nvPicPr>
        <p:blipFill>
          <a:blip r:embed="rId1"/>
          <a:stretch/>
        </p:blipFill>
        <p:spPr>
          <a:xfrm>
            <a:off x="533520" y="1219320"/>
            <a:ext cx="7950240" cy="3975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19800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Medha make Propulsion</a:t>
            </a:r>
            <a:br>
              <a:rPr sz="3200"/>
            </a:br>
            <a:r>
              <a:rPr b="1" lang="en-US" sz="2400" spc="-1" strike="noStrike">
                <a:solidFill>
                  <a:srgbClr val="c00000"/>
                </a:solidFill>
                <a:latin typeface="Calibri"/>
              </a:rPr>
              <a:t>(SHED WISE)</a:t>
            </a:r>
            <a:endParaRPr b="0" lang="en-US" sz="2400" spc="-1" strike="noStrike">
              <a:solidFill>
                <a:srgbClr val="000000"/>
              </a:solidFill>
              <a:latin typeface="Calibri"/>
            </a:endParaRPr>
          </a:p>
        </p:txBody>
      </p:sp>
      <p:pic>
        <p:nvPicPr>
          <p:cNvPr id="159" name="Object 87" descr=""/>
          <p:cNvPicPr/>
          <p:nvPr/>
        </p:nvPicPr>
        <p:blipFill>
          <a:blip r:embed="rId1"/>
          <a:stretch/>
        </p:blipFill>
        <p:spPr>
          <a:xfrm>
            <a:off x="168120" y="1752480"/>
            <a:ext cx="8823600" cy="3505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7596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Medha make Propulsion system</a:t>
            </a:r>
            <a:endParaRPr b="0" lang="en-US" sz="3200" spc="-1" strike="noStrike">
              <a:solidFill>
                <a:srgbClr val="000000"/>
              </a:solidFill>
              <a:latin typeface="Calibri"/>
            </a:endParaRPr>
          </a:p>
        </p:txBody>
      </p:sp>
      <p:graphicFrame>
        <p:nvGraphicFramePr>
          <p:cNvPr id="161" name=""/>
          <p:cNvGraphicFramePr/>
          <p:nvPr/>
        </p:nvGraphicFramePr>
        <p:xfrm>
          <a:off x="304920" y="923760"/>
          <a:ext cx="8686800" cy="3937320"/>
        </p:xfrm>
        <a:graphic>
          <a:graphicData uri="http://schemas.openxmlformats.org/drawingml/2006/table">
            <a:tbl>
              <a:tblPr/>
              <a:tblGrid>
                <a:gridCol w="527040"/>
                <a:gridCol w="2581200"/>
                <a:gridCol w="2454120"/>
                <a:gridCol w="3124440"/>
              </a:tblGrid>
              <a:tr h="35100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ion plan</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r>
              <a:tr h="358812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Bursting of capacitor: </a:t>
                      </a:r>
                      <a:endParaRPr b="0" lang="en-US" sz="20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 locomotive no 30553 at ELS/TATA the DC link capacitor burst, which led to failure of Power module.</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irm has informed that they have sent the failed DC link capacitor to Electronicon (Italy) and waiting for detailed investigation repor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Lucida Sans Unicode"/>
                        </a:rPr>
                        <a:t>M/s Medha stated that they have received Analysis Report from M/s. Electronicon, but not satisfied with their report. M/s Medha requested </a:t>
                      </a:r>
                      <a:r>
                        <a:rPr b="0" lang="en-US" sz="2000" spc="-1" strike="noStrike">
                          <a:solidFill>
                            <a:srgbClr val="000000"/>
                          </a:solidFill>
                          <a:latin typeface="Calibri"/>
                          <a:ea typeface="Calibri"/>
                        </a:rPr>
                        <a:t>Electronicon</a:t>
                      </a:r>
                      <a:r>
                        <a:rPr b="0" lang="en-GB" sz="2000" spc="-1" strike="noStrike">
                          <a:solidFill>
                            <a:srgbClr val="000000"/>
                          </a:solidFill>
                          <a:latin typeface="Calibri"/>
                          <a:ea typeface="Lucida Sans Unicode"/>
                        </a:rPr>
                        <a:t> to re-examine and submit the root cause analy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DC – 15.02.2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7596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Medha make Propulsion system</a:t>
            </a:r>
            <a:endParaRPr b="0" lang="en-US" sz="3200" spc="-1" strike="noStrike">
              <a:solidFill>
                <a:srgbClr val="000000"/>
              </a:solidFill>
              <a:latin typeface="Calibri"/>
            </a:endParaRPr>
          </a:p>
        </p:txBody>
      </p:sp>
      <p:graphicFrame>
        <p:nvGraphicFramePr>
          <p:cNvPr id="163" name=""/>
          <p:cNvGraphicFramePr/>
          <p:nvPr/>
        </p:nvGraphicFramePr>
        <p:xfrm>
          <a:off x="152280" y="828720"/>
          <a:ext cx="8839440" cy="5913360"/>
        </p:xfrm>
        <a:graphic>
          <a:graphicData uri="http://schemas.openxmlformats.org/drawingml/2006/table">
            <a:tbl>
              <a:tblPr/>
              <a:tblGrid>
                <a:gridCol w="536760"/>
                <a:gridCol w="1749240"/>
                <a:gridCol w="2743200"/>
                <a:gridCol w="3810240"/>
              </a:tblGrid>
              <a:tr h="351000">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ion plan</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r>
              <a:tr h="288180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Lucida Sans Unicode"/>
                        </a:rPr>
                        <a:t>Interoperability of MU units: </a:t>
                      </a:r>
                      <a:endParaRPr b="0" lang="en-US" sz="2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Lucida Sans Unicode"/>
                        </a:rPr>
                        <a:t>Multi-operation of locomotive of MEDHA with propulsion of BHEL to be done. </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Lucida Sans Unicode"/>
                        </a:rPr>
                        <a:t>Firm advised to visit the ELS/LGD with M/s BHEL and test the Multi-operation at the earlies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Lucida Sans Unicode"/>
                        </a:rPr>
                        <a:t>MU operation with C-DAC VCU and M/s Medha make VCUs to be done.</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Lucida Sans Unicode"/>
                        </a:rPr>
                        <a:t>M/s Medha requested to allot the locomotive having C-DAC VCU along with protocol detail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180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rmonic filter getting isolat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 case of isolation of any Traction converter automatically / manually, filter current increases and ultimately Harmonic filter getting isolated. </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imes New Roman"/>
                        </a:rPr>
                        <a:t>Software updated Locomotives working without any issues as on date. </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imes New Roman"/>
                        </a:rPr>
                        <a:t>Software updated in 46 Locos out of 113.</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imes New Roman"/>
                        </a:rPr>
                        <a:t>Balance – 67</a:t>
                      </a:r>
                      <a:endParaRPr b="0" lang="en-US" sz="20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imes New Roman"/>
                        </a:rPr>
                        <a:t>PDC: 28.02.2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9800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Medha make Propulsion system</a:t>
            </a:r>
            <a:endParaRPr b="0" lang="en-US" sz="3200" spc="-1" strike="noStrike">
              <a:solidFill>
                <a:srgbClr val="000000"/>
              </a:solidFill>
              <a:latin typeface="Calibri"/>
            </a:endParaRPr>
          </a:p>
        </p:txBody>
      </p:sp>
      <p:graphicFrame>
        <p:nvGraphicFramePr>
          <p:cNvPr id="165" name=""/>
          <p:cNvGraphicFramePr/>
          <p:nvPr/>
        </p:nvGraphicFramePr>
        <p:xfrm>
          <a:off x="380880" y="944640"/>
          <a:ext cx="8305920" cy="4557600"/>
        </p:xfrm>
        <a:graphic>
          <a:graphicData uri="http://schemas.openxmlformats.org/drawingml/2006/table">
            <a:tbl>
              <a:tblPr/>
              <a:tblGrid>
                <a:gridCol w="505080"/>
                <a:gridCol w="3305160"/>
                <a:gridCol w="3124080"/>
                <a:gridCol w="1371600"/>
              </a:tblGrid>
              <a:tr h="35100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ion plan</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emark</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here are several cases of isolation and recovery of subsystem automatically due to transient trouble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marL="442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Updated software have been provided in 10 Locomotives 37001/Ajni, 30547/SRC, 31930/TATA, 31902/TATA, 31920/TATA, 30558/SRC, 30149/GZB, 30700/SRC, 30595/LGD and 30649/GZB.</a:t>
                      </a:r>
                      <a:endParaRPr b="0" lang="en-US" sz="2000" spc="-1" strike="noStrike">
                        <a:solidFill>
                          <a:srgbClr val="000000"/>
                        </a:solidFill>
                        <a:latin typeface="Arial"/>
                      </a:endParaRPr>
                    </a:p>
                    <a:p>
                      <a:pPr marL="442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marL="442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marL="44280"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marL="442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oncerned Railways to give feedback.</a:t>
                      </a:r>
                      <a:endParaRPr b="0" lang="en-US" sz="1800" spc="-1" strike="noStrike">
                        <a:solidFill>
                          <a:srgbClr val="000000"/>
                        </a:solidFill>
                        <a:latin typeface="Arial"/>
                      </a:endParaRPr>
                    </a:p>
                    <a:p>
                      <a:pPr marL="442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4588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essage “Converter oil pressure not ok” does not store in DDS and whenever coolant temperature goes out of limit then directly “Converter oil temperature too high” message appears and the respective SR or Bogie gets isolated. </a:t>
                      </a:r>
                      <a:endParaRPr b="0" lang="en-US" sz="18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9800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Medha make Propulsion system</a:t>
            </a:r>
            <a:endParaRPr b="0" lang="en-US" sz="3200" spc="-1" strike="noStrike">
              <a:solidFill>
                <a:srgbClr val="000000"/>
              </a:solidFill>
              <a:latin typeface="Calibri"/>
            </a:endParaRPr>
          </a:p>
        </p:txBody>
      </p:sp>
      <p:graphicFrame>
        <p:nvGraphicFramePr>
          <p:cNvPr id="167" name=""/>
          <p:cNvGraphicFramePr/>
          <p:nvPr/>
        </p:nvGraphicFramePr>
        <p:xfrm>
          <a:off x="152280" y="828720"/>
          <a:ext cx="8229600" cy="5048280"/>
        </p:xfrm>
        <a:graphic>
          <a:graphicData uri="http://schemas.openxmlformats.org/drawingml/2006/table">
            <a:tbl>
              <a:tblPr/>
              <a:tblGrid>
                <a:gridCol w="441360"/>
                <a:gridCol w="2768760"/>
                <a:gridCol w="5019480"/>
              </a:tblGrid>
              <a:tr h="315720">
                <a:tc>
                  <a:txBody>
                    <a:bodyPr lIns="8280" rIns="828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N</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em</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ails</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8280" rIns="828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6.</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ogie isolation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ogie isolated on line instead of individual TM-4 isol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8280" rIns="828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Initial TE of 18% (40KN) observed in WAP5 loc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All locos equipped with M/s MEDHA make propulsion reported with same problem by ELS/BR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8280" rIns="828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DC link over voltag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re are several messages like ‘DC link over voltage’ which are not available in DDS but available in display unit. There are other such messages. Complete list needs to be prepar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07880">
                <a:tc>
                  <a:txBody>
                    <a:bodyPr lIns="8280" rIns="828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9.</a:t>
                      </a:r>
                      <a:endParaRPr b="0" lang="en-US" sz="18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Earth fault sensing ck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Extra ‘earth fault sensing ckt.’ in each Aux. converter is provided which causes protective shut down of Aux. Conv. In case of bonding of Scavenger leading to concerned BUR OFF and automatically transferring  load to other BUR which also senses earth fault and gets isolated and due to isolation of both conv. ‘Main power gets OFF’.</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9800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Medha make Propulsion system</a:t>
            </a:r>
            <a:endParaRPr b="0" lang="en-US" sz="3200" spc="-1" strike="noStrike">
              <a:solidFill>
                <a:srgbClr val="000000"/>
              </a:solidFill>
              <a:latin typeface="Calibri"/>
            </a:endParaRPr>
          </a:p>
        </p:txBody>
      </p:sp>
      <p:graphicFrame>
        <p:nvGraphicFramePr>
          <p:cNvPr id="169" name=""/>
          <p:cNvGraphicFramePr/>
          <p:nvPr/>
        </p:nvGraphicFramePr>
        <p:xfrm>
          <a:off x="152280" y="960480"/>
          <a:ext cx="8229600" cy="4827600"/>
        </p:xfrm>
        <a:graphic>
          <a:graphicData uri="http://schemas.openxmlformats.org/drawingml/2006/table">
            <a:tbl>
              <a:tblPr/>
              <a:tblGrid>
                <a:gridCol w="592200"/>
                <a:gridCol w="3606840"/>
                <a:gridCol w="4030560"/>
              </a:tblGrid>
              <a:tr h="41112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8280" rIns="8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ion plan</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 </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Harmonic filter getting isolat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case of isolation of any Traction converter automatically / manually, filter current increases and ultimately Harmonic filter getting isolat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7716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1.</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OHE voltage out of range message” not appearing in DD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OHE voltage out of range message” not appearing in DDS and loco does not trip. Due to OHE voltage out of range inverter pulsing stopped and further throttle not respondin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2.</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R gate unit power supply MCB trippin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R gate unit power supply MCB (20 amps) tripping causing Traction bogie isol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8280" rIns="8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3.</a:t>
                      </a:r>
                      <a:endParaRPr b="0" lang="en-US" sz="2000" spc="-1" strike="noStrike">
                        <a:solidFill>
                          <a:srgbClr val="000000"/>
                        </a:solidFill>
                        <a:latin typeface="Arial"/>
                      </a:endParaRPr>
                    </a:p>
                  </a:txBody>
                  <a:tcPr anchor="t" marL="8280" marR="82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Wrong display of energy regener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n place of Energy consumption, Display showing Energy regeneration in all newly received WAP7 locomotiv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E6C1-28E7-4CBA-882F-23846DAA6A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304920" y="2209680"/>
            <a:ext cx="8640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erformance of M/s. BHEL make Converters (IG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EC10-3942-44CD-AFF8-C8CDCA8A4D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Traction Converter</a:t>
            </a:r>
            <a:endParaRPr b="0" lang="en-US" sz="3200" spc="-1" strike="noStrike">
              <a:solidFill>
                <a:srgbClr val="000000"/>
              </a:solidFill>
              <a:latin typeface="Calibri"/>
            </a:endParaRPr>
          </a:p>
        </p:txBody>
      </p:sp>
      <p:pic>
        <p:nvPicPr>
          <p:cNvPr id="174" name="Object 85" descr=""/>
          <p:cNvPicPr/>
          <p:nvPr/>
        </p:nvPicPr>
        <p:blipFill>
          <a:blip r:embed="rId1"/>
          <a:stretch/>
        </p:blipFill>
        <p:spPr>
          <a:xfrm>
            <a:off x="50760" y="1447920"/>
            <a:ext cx="904248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3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C-DAC VCU</a:t>
            </a:r>
            <a:endParaRPr b="0" lang="en-US" sz="3200" spc="-1" strike="noStrike">
              <a:solidFill>
                <a:srgbClr val="000000"/>
              </a:solidFill>
              <a:latin typeface="Calibri"/>
            </a:endParaRPr>
          </a:p>
        </p:txBody>
      </p:sp>
      <p:graphicFrame>
        <p:nvGraphicFramePr>
          <p:cNvPr id="59" name=""/>
          <p:cNvGraphicFramePr/>
          <p:nvPr/>
        </p:nvGraphicFramePr>
        <p:xfrm>
          <a:off x="380880" y="685800"/>
          <a:ext cx="8382240" cy="5703840"/>
        </p:xfrm>
        <a:graphic>
          <a:graphicData uri="http://schemas.openxmlformats.org/drawingml/2006/table">
            <a:tbl>
              <a:tblPr/>
              <a:tblGrid>
                <a:gridCol w="503280"/>
                <a:gridCol w="2095560"/>
                <a:gridCol w="5783400"/>
              </a:tblGrid>
              <a:tr h="477720">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522612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oftware issu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sues yet to be resolved</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Tripping of DJ and simultaneous dropping of pantograph in case of ‘Low/No OHE voltage’ or  isolation of any subsystem.</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Non-display of Primary current (Ipri) in DDU.</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Wrong display of value (20%) of 0101-XangTrans (FLG-1) at ‘0’ position of Throttle.</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working of Unloader valves of Main compressor during closing of DJ, in case of MR pressure &lt; 8 kg/cm2 caused excess current drawn by the main compressor thereby sometimes tripping of MCBs of Main compressor. </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In fault messages, Date &amp; Time of some messages get re-setted (i.e. 1.1.1970). </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In error log some fault messages logged as error undefined. </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vidual TM isolation is not addressed properly.</a:t>
                      </a:r>
                      <a:endParaRPr b="0" lang="en-US" sz="1800" spc="-1" strike="noStrike">
                        <a:solidFill>
                          <a:srgbClr val="000000"/>
                        </a:solidFill>
                        <a:latin typeface="Arial"/>
                      </a:endParaRPr>
                    </a:p>
                    <a:p>
                      <a:pPr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el diameter setting feature is not available.</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545C-E23F-4974-9CD9-63647CCE50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360" y="27432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Traction Converter</a:t>
            </a:r>
            <a:br>
              <a:rPr sz="3200"/>
            </a:br>
            <a:r>
              <a:rPr b="1" lang="en-US" sz="2400" spc="-1" strike="noStrike">
                <a:solidFill>
                  <a:srgbClr val="c00000"/>
                </a:solidFill>
                <a:latin typeface="Calibri"/>
              </a:rPr>
              <a:t>(SHED WISE)</a:t>
            </a:r>
            <a:endParaRPr b="0" lang="en-US" sz="2400" spc="-1" strike="noStrike">
              <a:solidFill>
                <a:srgbClr val="000000"/>
              </a:solidFill>
              <a:latin typeface="Calibri"/>
            </a:endParaRPr>
          </a:p>
        </p:txBody>
      </p:sp>
      <p:pic>
        <p:nvPicPr>
          <p:cNvPr id="177" name="Object 82" descr=""/>
          <p:cNvPicPr/>
          <p:nvPr/>
        </p:nvPicPr>
        <p:blipFill>
          <a:blip r:embed="rId1"/>
          <a:stretch/>
        </p:blipFill>
        <p:spPr>
          <a:xfrm>
            <a:off x="0" y="1905120"/>
            <a:ext cx="914400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Traction Converter</a:t>
            </a:r>
            <a:endParaRPr b="0" lang="en-US" sz="3200" spc="-1" strike="noStrike">
              <a:solidFill>
                <a:srgbClr val="000000"/>
              </a:solidFill>
              <a:latin typeface="Calibri"/>
            </a:endParaRPr>
          </a:p>
        </p:txBody>
      </p:sp>
      <p:graphicFrame>
        <p:nvGraphicFramePr>
          <p:cNvPr id="179" name=""/>
          <p:cNvGraphicFramePr/>
          <p:nvPr/>
        </p:nvGraphicFramePr>
        <p:xfrm>
          <a:off x="152280" y="582480"/>
          <a:ext cx="8763120" cy="4986360"/>
        </p:xfrm>
        <a:graphic>
          <a:graphicData uri="http://schemas.openxmlformats.org/drawingml/2006/table">
            <a:tbl>
              <a:tblPr/>
              <a:tblGrid>
                <a:gridCol w="398520"/>
                <a:gridCol w="1201680"/>
                <a:gridCol w="3048120"/>
                <a:gridCol w="4114800"/>
              </a:tblGrid>
              <a:tr h="40536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N</a:t>
                      </a:r>
                      <a:endParaRPr b="0" lang="en-US" sz="22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tem</a:t>
                      </a:r>
                      <a:endParaRPr b="0" lang="en-US" sz="22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on plan</a:t>
                      </a:r>
                      <a:endParaRPr b="0" lang="en-US" sz="22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mark</a:t>
                      </a:r>
                      <a:endParaRPr b="0" lang="en-US" sz="22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r>
              <a:tr h="458100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a:t>
                      </a:r>
                      <a:endParaRPr b="0" lang="en-US" sz="22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wer Module Failures</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marL="60480" algn="just">
                        <a:lnSpc>
                          <a:spcPct val="100000"/>
                        </a:lnSpc>
                        <a:tabLst>
                          <a:tab algn="l" pos="0"/>
                          <a:tab algn="l" pos="29113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level of monitoring time has been modified for from existing 750ns to 1000ns. </a:t>
                      </a:r>
                      <a:endParaRPr b="0" lang="en-US" sz="2000" spc="-1" strike="noStrike">
                        <a:solidFill>
                          <a:srgbClr val="000000"/>
                        </a:solidFill>
                        <a:latin typeface="Arial"/>
                      </a:endParaRPr>
                    </a:p>
                    <a:p>
                      <a:pPr marL="60480" algn="just">
                        <a:lnSpc>
                          <a:spcPct val="100000"/>
                        </a:lnSpc>
                        <a:tabLst>
                          <a:tab algn="l" pos="0"/>
                          <a:tab algn="l" pos="29113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480" algn="just">
                        <a:lnSpc>
                          <a:spcPct val="100000"/>
                        </a:lnSpc>
                        <a:tabLst>
                          <a:tab algn="l" pos="0"/>
                          <a:tab algn="l" pos="29113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vulnerable component shall be replaced with improved rating components. </a:t>
                      </a:r>
                      <a:endParaRPr b="0" lang="en-US" sz="2000" spc="-1" strike="noStrike">
                        <a:solidFill>
                          <a:srgbClr val="000000"/>
                        </a:solidFill>
                        <a:latin typeface="Arial"/>
                      </a:endParaRPr>
                    </a:p>
                    <a:p>
                      <a:pPr marL="60480" algn="just">
                        <a:lnSpc>
                          <a:spcPct val="100000"/>
                        </a:lnSpc>
                        <a:tabLst>
                          <a:tab algn="l" pos="0"/>
                          <a:tab algn="l" pos="29113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480" algn="just">
                        <a:lnSpc>
                          <a:spcPct val="100000"/>
                        </a:lnSpc>
                        <a:tabLst>
                          <a:tab algn="l" pos="0"/>
                          <a:tab algn="l" pos="29113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ure of power modules is very high. Maximum failures due to Tmax, SEPL, Start Err Top/Bottom phase.</a:t>
                      </a:r>
                      <a:endParaRPr b="0" lang="en-US" sz="2000" spc="-1" strike="noStrike">
                        <a:solidFill>
                          <a:srgbClr val="000000"/>
                        </a:solidFill>
                        <a:latin typeface="Arial"/>
                      </a:endParaRPr>
                    </a:p>
                    <a:p>
                      <a:pPr marL="60480" algn="just">
                        <a:lnSpc>
                          <a:spcPct val="100000"/>
                        </a:lnSpc>
                        <a:tabLst>
                          <a:tab algn="l" pos="0"/>
                          <a:tab algn="l" pos="29113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HEL informed that higher rated MOSFET driver introduced from Oct 2017 and higher rated MOSFET introduced in gate drivers from June 2018 in regular production to improve the reliability of gate driver after usage in converters at Kazipet.</a:t>
                      </a:r>
                      <a:endParaRPr b="0" lang="en-US" sz="2000" spc="-1" strike="noStrike">
                        <a:solidFill>
                          <a:srgbClr val="000000"/>
                        </a:solidFill>
                        <a:latin typeface="Arial"/>
                      </a:endParaRPr>
                    </a:p>
                    <a:p>
                      <a:pPr marL="228600" algn="just">
                        <a:lnSpc>
                          <a:spcPct val="10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ftware ver. 774 with increased timing parameter for SEPL max detection introduced loaded in all 347 Locos. </a:t>
                      </a:r>
                      <a:endParaRPr b="0" lang="en-US" sz="2000" spc="-1" strike="noStrike">
                        <a:solidFill>
                          <a:srgbClr val="000000"/>
                        </a:solidFill>
                        <a:latin typeface="Arial"/>
                      </a:endParaRPr>
                    </a:p>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HEL should look into the problem afresh.</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Traction Converter</a:t>
            </a:r>
            <a:endParaRPr b="0" lang="en-US" sz="3200" spc="-1" strike="noStrike">
              <a:solidFill>
                <a:srgbClr val="000000"/>
              </a:solidFill>
              <a:latin typeface="Calibri"/>
            </a:endParaRPr>
          </a:p>
        </p:txBody>
      </p:sp>
      <p:pic>
        <p:nvPicPr>
          <p:cNvPr id="181" name="Table 1" descr=""/>
          <p:cNvPicPr/>
          <p:nvPr/>
        </p:nvPicPr>
        <p:blipFill>
          <a:blip r:embed="rId1"/>
          <a:stretch/>
        </p:blipFill>
        <p:spPr>
          <a:xfrm>
            <a:off x="311040" y="914400"/>
            <a:ext cx="8601120" cy="2610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Traction Converter</a:t>
            </a:r>
            <a:endParaRPr b="0" lang="en-US" sz="3200" spc="-1" strike="noStrike">
              <a:solidFill>
                <a:srgbClr val="000000"/>
              </a:solidFill>
              <a:latin typeface="Calibri"/>
            </a:endParaRPr>
          </a:p>
        </p:txBody>
      </p:sp>
      <p:graphicFrame>
        <p:nvGraphicFramePr>
          <p:cNvPr id="183" name=""/>
          <p:cNvGraphicFramePr/>
          <p:nvPr/>
        </p:nvGraphicFramePr>
        <p:xfrm>
          <a:off x="380880" y="563400"/>
          <a:ext cx="8458200" cy="6043680"/>
        </p:xfrm>
        <a:graphic>
          <a:graphicData uri="http://schemas.openxmlformats.org/drawingml/2006/table">
            <a:tbl>
              <a:tblPr/>
              <a:tblGrid>
                <a:gridCol w="609840"/>
                <a:gridCol w="1657080"/>
                <a:gridCol w="2703600"/>
                <a:gridCol w="3487680"/>
              </a:tblGrid>
              <a:tr h="52236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N</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tem</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on plan</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mark</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552132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t">
                      <a:noAutofit/>
                    </a:bodyPr>
                    <a:p>
                      <a:pPr marL="49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Reduction of TE/BE with no DDS</a:t>
                      </a:r>
                      <a:r>
                        <a:rPr b="0" lang="en-IN" sz="1800" spc="-1" strike="noStrike">
                          <a:solidFill>
                            <a:srgbClr val="000000"/>
                          </a:solidFill>
                          <a:latin typeface="Calibri"/>
                          <a:ea typeface="Times New Roman"/>
                        </a:rPr>
                        <a:t> at higher speed</a:t>
                      </a:r>
                      <a:r>
                        <a:rPr b="0" lang="en-IN" sz="1800" spc="-1" strike="noStrike">
                          <a:solidFill>
                            <a:srgbClr val="000000"/>
                          </a:solidFill>
                          <a:latin typeface="Calibri"/>
                          <a:ea typeface="Times New Roman"/>
                        </a:rPr>
                        <a:t>.</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t">
                      <a:noAutofit/>
                    </a:bodyPr>
                    <a:p>
                      <a:pPr marL="343080" indent="-343080" algn="just">
                        <a:lnSpc>
                          <a:spcPct val="115000"/>
                        </a:lnSpc>
                        <a:spcAft>
                          <a:spcPts val="601"/>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ccurring due to loss of Panto contact with OHE for more than 45ms. This has come to light after analyzing the data of loco 30129 of ELS/GZB where this problem occurred.</a:t>
                      </a:r>
                      <a:endParaRPr b="0" lang="en-US" sz="1800" spc="-1" strike="noStrike">
                        <a:solidFill>
                          <a:srgbClr val="000000"/>
                        </a:solidFill>
                        <a:latin typeface="Arial"/>
                      </a:endParaRPr>
                    </a:p>
                    <a:p>
                      <a:pPr marL="343080" indent="-343080" algn="just">
                        <a:lnSpc>
                          <a:spcPct val="115000"/>
                        </a:lnSpc>
                        <a:spcAft>
                          <a:spcPts val="601"/>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BHEL was requested to explore the feasibility of increasing the DC link capacitance to the extent possible so as to reduce such problems by higher energy storage capacity. Existing rating 6.75 mF (9x750 uF).</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t">
                      <a:noAutofit/>
                    </a:bodyPr>
                    <a:p>
                      <a:pPr marL="343080" indent="-227160" algn="just">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BHEL concluded that the capacitance is adequately sized for the application. </a:t>
                      </a:r>
                      <a:endParaRPr b="0" lang="en-US" sz="1800" spc="-1" strike="noStrike">
                        <a:solidFill>
                          <a:srgbClr val="000000"/>
                        </a:solidFill>
                        <a:latin typeface="Arial"/>
                      </a:endParaRPr>
                    </a:p>
                    <a:p>
                      <a:pPr marL="343080" indent="-227160" algn="just">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urther BHEL has indicated Increased capacitance is resulting in higher short circuit current limits which is detrimental for the equipment. Hence, increase in capacitance is not envisaged. </a:t>
                      </a:r>
                      <a:endParaRPr b="0" lang="en-US" sz="1800" spc="-1" strike="noStrike">
                        <a:solidFill>
                          <a:srgbClr val="000000"/>
                        </a:solidFill>
                        <a:latin typeface="Arial"/>
                      </a:endParaRPr>
                    </a:p>
                    <a:p>
                      <a:pPr marL="343080" indent="-227160" algn="just">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BHEL was once again requested to look into the possibility to increase the DC link capacitance and other related aspects. BHEL has to specifically intimate the solution considering all the parameters.</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Traction Converter</a:t>
            </a:r>
            <a:endParaRPr b="0" lang="en-US" sz="3200" spc="-1" strike="noStrike">
              <a:solidFill>
                <a:srgbClr val="000000"/>
              </a:solidFill>
              <a:latin typeface="Calibri"/>
            </a:endParaRPr>
          </a:p>
        </p:txBody>
      </p:sp>
      <p:graphicFrame>
        <p:nvGraphicFramePr>
          <p:cNvPr id="185" name=""/>
          <p:cNvGraphicFramePr/>
          <p:nvPr/>
        </p:nvGraphicFramePr>
        <p:xfrm>
          <a:off x="343080" y="685800"/>
          <a:ext cx="8458200" cy="3809880"/>
        </p:xfrm>
        <a:graphic>
          <a:graphicData uri="http://schemas.openxmlformats.org/drawingml/2006/table">
            <a:tbl>
              <a:tblPr/>
              <a:tblGrid>
                <a:gridCol w="609480"/>
                <a:gridCol w="1371600"/>
                <a:gridCol w="2743200"/>
                <a:gridCol w="3733920"/>
              </a:tblGrid>
              <a:tr h="52236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N</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tem</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on plan</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mark</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328752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49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Failure of Electronic Cards (VIU/DCU)</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289080" indent="-23976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VIU: BHEL has provided snubber circuit across the relay contacts.</a:t>
                      </a:r>
                      <a:endParaRPr b="0" lang="en-US" sz="2000" spc="-1" strike="noStrike">
                        <a:solidFill>
                          <a:srgbClr val="000000"/>
                        </a:solidFill>
                        <a:latin typeface="Arial"/>
                      </a:endParaRPr>
                    </a:p>
                    <a:p>
                      <a:pPr marL="289080" indent="-23976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DCU: Board was getting corrupted when access with diagnostic s/w version 2.7.</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7 card failed in 2018-19 (Apr-Dec) whereas 55 cards were failed in year 2017-18.</a:t>
                      </a: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pite of taking the steps, the rate of failure is increasing. It seems that the steps are not effective and the problem needs to be taken afresh</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Traction Converter</a:t>
            </a:r>
            <a:endParaRPr b="0" lang="en-US" sz="3200" spc="-1" strike="noStrike">
              <a:solidFill>
                <a:srgbClr val="000000"/>
              </a:solidFill>
              <a:latin typeface="Calibri"/>
            </a:endParaRPr>
          </a:p>
        </p:txBody>
      </p:sp>
      <p:graphicFrame>
        <p:nvGraphicFramePr>
          <p:cNvPr id="187" name=""/>
          <p:cNvGraphicFramePr/>
          <p:nvPr/>
        </p:nvGraphicFramePr>
        <p:xfrm>
          <a:off x="343080" y="685800"/>
          <a:ext cx="7886520" cy="4978440"/>
        </p:xfrm>
        <a:graphic>
          <a:graphicData uri="http://schemas.openxmlformats.org/drawingml/2006/table">
            <a:tbl>
              <a:tblPr/>
              <a:tblGrid>
                <a:gridCol w="480960"/>
                <a:gridCol w="2608200"/>
                <a:gridCol w="2398680"/>
                <a:gridCol w="2398680"/>
              </a:tblGrid>
              <a:tr h="52236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N</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tem</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Details</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marks</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30176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Harmonic Filter contactor (8.1 /8.2)  stuck  on” proble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e appearing of “Harmonic Filter contactor (8.1 /8.2)  stuck  on” proble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eeds further investig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9216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6.</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Harmonic filter current hig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Harmonic Filter current is current 300 to 325 amp. Whereas in other make Traction Converter it is 150 to 180 amp.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HEL may study the logic of filter operation of other mak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Issue of “</a:t>
                      </a:r>
                      <a:r>
                        <a:rPr b="1" lang="en-IN" sz="1800" spc="-1" strike="noStrike">
                          <a:solidFill>
                            <a:srgbClr val="000000"/>
                          </a:solidFill>
                          <a:latin typeface="Calibri"/>
                          <a:ea typeface="Times New Roman"/>
                        </a:rPr>
                        <a:t>flashing of power cable</a:t>
                      </a:r>
                      <a:r>
                        <a:rPr b="0" lang="en-IN" sz="1800" spc="-1" strike="noStrike">
                          <a:solidFill>
                            <a:srgbClr val="000000"/>
                          </a:solidFill>
                          <a:latin typeface="Calibri"/>
                          <a:ea typeface="Times New Roman"/>
                        </a:rPr>
                        <a:t>” at gland area inside convert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This issue has been reported by ELS/BRC. Other Railways may  give feedback.</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ilway to respon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Traction Converter</a:t>
            </a:r>
            <a:endParaRPr b="0" lang="en-US" sz="3200" spc="-1" strike="noStrike">
              <a:solidFill>
                <a:srgbClr val="000000"/>
              </a:solidFill>
              <a:latin typeface="Calibri"/>
            </a:endParaRPr>
          </a:p>
        </p:txBody>
      </p:sp>
      <p:graphicFrame>
        <p:nvGraphicFramePr>
          <p:cNvPr id="189" name=""/>
          <p:cNvGraphicFramePr/>
          <p:nvPr/>
        </p:nvGraphicFramePr>
        <p:xfrm>
          <a:off x="514440" y="1219320"/>
          <a:ext cx="7962840" cy="2544480"/>
        </p:xfrm>
        <a:graphic>
          <a:graphicData uri="http://schemas.openxmlformats.org/drawingml/2006/table">
            <a:tbl>
              <a:tblPr/>
              <a:tblGrid>
                <a:gridCol w="696960"/>
                <a:gridCol w="3055680"/>
                <a:gridCol w="4210200"/>
              </a:tblGrid>
              <a:tr h="52200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N</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tem</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tails</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07640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S MSG remains Blank for speed senso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S MSG from Speed Sensor of TM Remains Blank causing difficulty in detection of faulty T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9.</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Power module Stucchi coupling failur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In all the cases Power module Stucchi spindle found jam due to spring inside got defectiv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Traction Converter</a:t>
            </a:r>
            <a:endParaRPr b="0" lang="en-US" sz="3200" spc="-1" strike="noStrike">
              <a:solidFill>
                <a:srgbClr val="000000"/>
              </a:solidFill>
              <a:latin typeface="Calibri"/>
            </a:endParaRPr>
          </a:p>
        </p:txBody>
      </p:sp>
      <p:graphicFrame>
        <p:nvGraphicFramePr>
          <p:cNvPr id="191" name=""/>
          <p:cNvGraphicFramePr/>
          <p:nvPr/>
        </p:nvGraphicFramePr>
        <p:xfrm>
          <a:off x="343080" y="685800"/>
          <a:ext cx="8458200" cy="2100240"/>
        </p:xfrm>
        <a:graphic>
          <a:graphicData uri="http://schemas.openxmlformats.org/drawingml/2006/table">
            <a:tbl>
              <a:tblPr/>
              <a:tblGrid>
                <a:gridCol w="609480"/>
                <a:gridCol w="3314520"/>
                <a:gridCol w="3048120"/>
                <a:gridCol w="1486080"/>
              </a:tblGrid>
              <a:tr h="52236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N</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tem</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on plan</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mark</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57788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1.</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Sludge formation in coolant circuit of BHEL make Traction converter even after flushing and changing the coolant causing pressure switch chock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It appears this is an issue of improper cleanin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864072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Times New Roman"/>
              </a:rPr>
              <a:t>BHEL make Auxiliary Converter</a:t>
            </a:r>
            <a:endParaRPr b="0" lang="en-US" sz="2800" spc="-1" strike="noStrike">
              <a:solidFill>
                <a:srgbClr val="000000"/>
              </a:solidFill>
              <a:latin typeface="Calibri"/>
            </a:endParaRPr>
          </a:p>
        </p:txBody>
      </p:sp>
      <p:sp>
        <p:nvSpPr>
          <p:cNvPr id="193"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D69B-5107-4D90-9265-AF682B6139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4" name="Object 82" descr=""/>
          <p:cNvPicPr/>
          <p:nvPr/>
        </p:nvPicPr>
        <p:blipFill>
          <a:blip r:embed="rId1"/>
          <a:stretch/>
        </p:blipFill>
        <p:spPr>
          <a:xfrm>
            <a:off x="76320" y="1566720"/>
            <a:ext cx="9067680" cy="3843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228240"/>
            <a:ext cx="8640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Times New Roman"/>
              </a:rPr>
              <a:t>BHEL make Auxiliary Converter</a:t>
            </a:r>
            <a:br>
              <a:rPr sz="2800"/>
            </a:br>
            <a:r>
              <a:rPr b="1" lang="en-US" sz="2400" spc="-1" strike="noStrike">
                <a:solidFill>
                  <a:srgbClr val="ff0000"/>
                </a:solidFill>
                <a:latin typeface="Calibri"/>
                <a:ea typeface="Times New Roman"/>
              </a:rPr>
              <a:t>(SHED WISE)</a:t>
            </a:r>
            <a:endParaRPr b="0" lang="en-US" sz="2400" spc="-1" strike="noStrike">
              <a:solidFill>
                <a:srgbClr val="000000"/>
              </a:solidFill>
              <a:latin typeface="Calibri"/>
            </a:endParaRPr>
          </a:p>
        </p:txBody>
      </p:sp>
      <p:sp>
        <p:nvSpPr>
          <p:cNvPr id="19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BAC0-5609-40EF-8E8F-5A294E93D5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7" name="Object 81" descr=""/>
          <p:cNvPicPr/>
          <p:nvPr/>
        </p:nvPicPr>
        <p:blipFill>
          <a:blip r:embed="rId1"/>
          <a:stretch/>
        </p:blipFill>
        <p:spPr>
          <a:xfrm>
            <a:off x="0" y="1447920"/>
            <a:ext cx="9032760" cy="32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3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C-DAC VCU</a:t>
            </a:r>
            <a:endParaRPr b="0" lang="en-US" sz="3200" spc="-1" strike="noStrike">
              <a:solidFill>
                <a:srgbClr val="000000"/>
              </a:solidFill>
              <a:latin typeface="Calibri"/>
            </a:endParaRPr>
          </a:p>
        </p:txBody>
      </p:sp>
      <p:graphicFrame>
        <p:nvGraphicFramePr>
          <p:cNvPr id="61" name=""/>
          <p:cNvGraphicFramePr/>
          <p:nvPr/>
        </p:nvGraphicFramePr>
        <p:xfrm>
          <a:off x="304920" y="1339920"/>
          <a:ext cx="8610480" cy="3689280"/>
        </p:xfrm>
        <a:graphic>
          <a:graphicData uri="http://schemas.openxmlformats.org/drawingml/2006/table">
            <a:tbl>
              <a:tblPr/>
              <a:tblGrid>
                <a:gridCol w="515880"/>
                <a:gridCol w="3174840"/>
                <a:gridCol w="4919760"/>
              </a:tblGrid>
              <a:tr h="488880">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N</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ails</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Cab redundancy feature not incorporated till 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b redundancy as per MICAS VCUs need to be implement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L not workin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L not working in standstill condition and also in running condition in some loco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6040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CB stuck-up.</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ssages comes after passing neutral sec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5256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CB-100 trip message not Pop-up on DD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CB-100 (Battery charger MCB) trips and message not Pop-up on DDU. Due to this battery gets run down on lin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Aux. Converter</a:t>
            </a:r>
            <a:endParaRPr b="0" lang="en-US" sz="3200" spc="-1" strike="noStrike">
              <a:solidFill>
                <a:srgbClr val="000000"/>
              </a:solidFill>
              <a:latin typeface="Calibri"/>
            </a:endParaRPr>
          </a:p>
        </p:txBody>
      </p:sp>
      <p:graphicFrame>
        <p:nvGraphicFramePr>
          <p:cNvPr id="199" name=""/>
          <p:cNvGraphicFramePr/>
          <p:nvPr/>
        </p:nvGraphicFramePr>
        <p:xfrm>
          <a:off x="380880" y="760320"/>
          <a:ext cx="8610840" cy="5656320"/>
        </p:xfrm>
        <a:graphic>
          <a:graphicData uri="http://schemas.openxmlformats.org/drawingml/2006/table">
            <a:tbl>
              <a:tblPr/>
              <a:tblGrid>
                <a:gridCol w="621000"/>
                <a:gridCol w="1954080"/>
                <a:gridCol w="3063960"/>
                <a:gridCol w="2971800"/>
              </a:tblGrid>
              <a:tr h="381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SN</a:t>
                      </a: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Item</a:t>
                      </a: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Action plan</a:t>
                      </a: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Remark</a:t>
                      </a: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611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1.</a:t>
                      </a: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Inverter module failure</a:t>
                      </a: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Assembly process reviewed to prevent damage of IGBT terminals in the module.</a:t>
                      </a:r>
                      <a:endParaRPr b="0" lang="en-US" sz="1900" spc="-1" strike="noStrike">
                        <a:solidFill>
                          <a:srgbClr val="000000"/>
                        </a:solidFill>
                        <a:latin typeface="Arial"/>
                      </a:endParaRPr>
                    </a:p>
                    <a:p>
                      <a:pPr marL="343080" indent="-34308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rther, power-up issue in the AMC module shall be addressed with increased initializing current. </a:t>
                      </a:r>
                      <a:r>
                        <a:rPr b="0" lang="en-US" sz="1900" spc="-1" strike="noStrike">
                          <a:solidFill>
                            <a:srgbClr val="000000"/>
                          </a:solidFill>
                          <a:latin typeface="Calibri"/>
                          <a:ea typeface="Times New Roman"/>
                        </a:rPr>
                        <a:t>. </a:t>
                      </a: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SW ver. 188.1 with less sensitive di/dt monitoring (2 to 3 µs) has been uploaded and regular cut-in since Jan’2018.</a:t>
                      </a:r>
                      <a:endParaRPr b="0" lang="en-US" sz="19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Power up issue in AMC module: Resistor value modified to optimize the initializing current and same implemented from May 2016. </a:t>
                      </a:r>
                      <a:endParaRPr b="0" lang="en-US" sz="19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No improvement in the performance.</a:t>
                      </a: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663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alibri"/>
                        </a:rPr>
                        <a:t>2.</a:t>
                      </a: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Control rectifier module failure</a:t>
                      </a:r>
                      <a:endParaRPr b="0" lang="en-US" sz="19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Power-up issue in the AMC module by addressing increased initializing current. </a:t>
                      </a:r>
                      <a:endParaRPr b="0" lang="en-US" sz="1900" spc="-1" strike="noStrike">
                        <a:solidFill>
                          <a:srgbClr val="000000"/>
                        </a:solidFill>
                        <a:latin typeface="Arial"/>
                      </a:endParaRPr>
                    </a:p>
                    <a:p>
                      <a:pPr marL="343080" indent="-34308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Common to Inverter, Controlled Rectifier and Battery charger</a:t>
                      </a:r>
                      <a:endParaRPr b="0" lang="en-US" sz="1900" spc="-1" strike="noStrike">
                        <a:solidFill>
                          <a:srgbClr val="000000"/>
                        </a:solidFill>
                        <a:latin typeface="Arial"/>
                      </a:endParaRPr>
                    </a:p>
                    <a:p>
                      <a:pPr marL="343080" indent="-34308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Aux. Converter</a:t>
            </a:r>
            <a:endParaRPr b="0" lang="en-US" sz="3200" spc="-1" strike="noStrike">
              <a:solidFill>
                <a:srgbClr val="000000"/>
              </a:solidFill>
              <a:latin typeface="Calibri"/>
            </a:endParaRPr>
          </a:p>
        </p:txBody>
      </p:sp>
      <p:graphicFrame>
        <p:nvGraphicFramePr>
          <p:cNvPr id="201" name=""/>
          <p:cNvGraphicFramePr/>
          <p:nvPr/>
        </p:nvGraphicFramePr>
        <p:xfrm>
          <a:off x="357120" y="716040"/>
          <a:ext cx="8610840" cy="5592600"/>
        </p:xfrm>
        <a:graphic>
          <a:graphicData uri="http://schemas.openxmlformats.org/drawingml/2006/table">
            <a:tbl>
              <a:tblPr/>
              <a:tblGrid>
                <a:gridCol w="620640"/>
                <a:gridCol w="1952640"/>
                <a:gridCol w="3065760"/>
                <a:gridCol w="2971800"/>
              </a:tblGrid>
              <a:tr h="378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te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pla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emar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14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No DDS of BUR with BT make traction conver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No DDS of BUR is being recorded other than life sign missing in Locos equipped with BT make Traction Converter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just">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patibility issue  with BT make SR. </a:t>
                      </a:r>
                      <a:endParaRPr b="0" lang="en-US" sz="2000" spc="-1" strike="noStrike">
                        <a:solidFill>
                          <a:srgbClr val="000000"/>
                        </a:solidFill>
                        <a:latin typeface="Arial"/>
                      </a:endParaRPr>
                    </a:p>
                    <a:p>
                      <a:pPr marL="343080" indent="-343080" algn="just">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T and BHEL has modified the software to address the issue. </a:t>
                      </a:r>
                      <a:endParaRPr b="0" lang="en-US" sz="2000" spc="-1" strike="noStrike">
                        <a:solidFill>
                          <a:srgbClr val="000000"/>
                        </a:solidFill>
                        <a:latin typeface="Arial"/>
                      </a:endParaRPr>
                    </a:p>
                    <a:p>
                      <a:pPr marL="343080" indent="-343080" algn="just">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ested in loco no. 31943 at ELS/Katni.</a:t>
                      </a:r>
                      <a:endParaRPr b="0" lang="en-US" sz="2000" spc="-1" strike="noStrike">
                        <a:solidFill>
                          <a:srgbClr val="000000"/>
                        </a:solidFill>
                        <a:latin typeface="Arial"/>
                      </a:endParaRPr>
                    </a:p>
                    <a:p>
                      <a:pPr marL="343080" indent="-343080" algn="just">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rmware was updated and message getting logged.</a:t>
                      </a:r>
                      <a:endParaRPr b="0" lang="en-US" sz="2000" spc="-1" strike="noStrike">
                        <a:solidFill>
                          <a:srgbClr val="000000"/>
                        </a:solidFill>
                        <a:latin typeface="Arial"/>
                      </a:endParaRPr>
                    </a:p>
                    <a:p>
                      <a:pPr marL="343080" indent="-343080" algn="just">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owever, BHEL has not still started downloading  the updated firmwar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Aux. Converter</a:t>
            </a:r>
            <a:endParaRPr b="0" lang="en-US" sz="3200" spc="-1" strike="noStrike">
              <a:solidFill>
                <a:srgbClr val="000000"/>
              </a:solidFill>
              <a:latin typeface="Calibri"/>
            </a:endParaRPr>
          </a:p>
        </p:txBody>
      </p:sp>
      <p:graphicFrame>
        <p:nvGraphicFramePr>
          <p:cNvPr id="203" name=""/>
          <p:cNvGraphicFramePr/>
          <p:nvPr/>
        </p:nvGraphicFramePr>
        <p:xfrm>
          <a:off x="228600" y="838080"/>
          <a:ext cx="8534520" cy="5334120"/>
        </p:xfrm>
        <a:graphic>
          <a:graphicData uri="http://schemas.openxmlformats.org/drawingml/2006/table">
            <a:tbl>
              <a:tblPr/>
              <a:tblGrid>
                <a:gridCol w="620640"/>
                <a:gridCol w="2009880"/>
                <a:gridCol w="3328920"/>
                <a:gridCol w="2575080"/>
              </a:tblGrid>
              <a:tr h="312120">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ion plan</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r>
              <a:tr h="3278160">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BUR-2 frequency</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requency of message TR-1 &amp; 2 oil pressure not OK &amp; Converter-1 &amp; 2 Coolant pressure not OK is abnormally high. BUR-2 frequency at that moment is found 15 to 20 Hz. whereas, frequency of BUR-3 is 50 Hz in the back ground data.</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marL="396720" indent="-34272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irm has indicated they have addressed the issue in software version -188.1. </a:t>
                      </a:r>
                      <a:endParaRPr b="0" lang="en-US" sz="2000" spc="-1" strike="noStrike">
                        <a:solidFill>
                          <a:srgbClr val="000000"/>
                        </a:solidFill>
                        <a:latin typeface="Arial"/>
                      </a:endParaRPr>
                    </a:p>
                    <a:p>
                      <a:pPr marL="396720" indent="-342720" algn="just">
                        <a:lnSpc>
                          <a:spcPct val="10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ea typeface="Times New Roman"/>
                        </a:rPr>
                        <a:t>Railways to indicate if the problem is resolved in software version – 188.1.</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1753560">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marL="442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ain power off </a:t>
                      </a:r>
                      <a:endParaRPr b="0" lang="en-US" sz="18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solation of BUR1,2 &amp; 3 due to Low/No OHE followed by Main power off as compared to other make Auxiliary converter.</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marL="343080" indent="-343080" algn="just">
                        <a:lnSpc>
                          <a:spcPct val="10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Aux. Converter</a:t>
            </a:r>
            <a:endParaRPr b="0" lang="en-US" sz="3200" spc="-1" strike="noStrike">
              <a:solidFill>
                <a:srgbClr val="000000"/>
              </a:solidFill>
              <a:latin typeface="Calibri"/>
            </a:endParaRPr>
          </a:p>
        </p:txBody>
      </p:sp>
      <p:graphicFrame>
        <p:nvGraphicFramePr>
          <p:cNvPr id="205" name=""/>
          <p:cNvGraphicFramePr/>
          <p:nvPr/>
        </p:nvGraphicFramePr>
        <p:xfrm>
          <a:off x="228600" y="914400"/>
          <a:ext cx="8610480" cy="3581280"/>
        </p:xfrm>
        <a:graphic>
          <a:graphicData uri="http://schemas.openxmlformats.org/drawingml/2006/table">
            <a:tbl>
              <a:tblPr/>
              <a:tblGrid>
                <a:gridCol w="620640"/>
                <a:gridCol w="2009880"/>
                <a:gridCol w="2779560"/>
                <a:gridCol w="3200400"/>
              </a:tblGrid>
              <a:tr h="336600">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ion plan</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r>
              <a:tr h="3244680">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6.</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verheating of power cable terminal lug supporting stud</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verheating of power cable terminal lug supporting stud inside the BUR Box-1 &amp; 2 due to bad conductivity between stud and hexagonal socket reported by ELS/GMO and ELS/BRC</a:t>
                      </a:r>
                      <a:endParaRPr b="0" lang="en-US" sz="20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marL="3430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irm has stated that Brass studs have been made available to loco sheds.</a:t>
                      </a:r>
                      <a:endParaRPr b="0" lang="en-US" sz="2000" spc="-1" strike="noStrike">
                        <a:solidFill>
                          <a:srgbClr val="000000"/>
                        </a:solidFill>
                        <a:latin typeface="Arial"/>
                      </a:endParaRPr>
                    </a:p>
                    <a:p>
                      <a:pPr marL="3430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Very poor response of firm in BRC. O</a:t>
                      </a:r>
                      <a:r>
                        <a:rPr b="0" lang="en-IN" sz="1800" spc="-1" strike="noStrike">
                          <a:solidFill>
                            <a:srgbClr val="000000"/>
                          </a:solidFill>
                          <a:latin typeface="Calibri"/>
                        </a:rPr>
                        <a:t>nly 03 nos. locos out of 22 locos.</a:t>
                      </a:r>
                      <a:endParaRPr b="0" lang="en-US" sz="1800" spc="-1" strike="noStrike">
                        <a:solidFill>
                          <a:srgbClr val="000000"/>
                        </a:solidFill>
                        <a:latin typeface="Arial"/>
                      </a:endParaRPr>
                    </a:p>
                    <a:p>
                      <a:pPr marL="3430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Other Railways to give feedback.</a:t>
                      </a:r>
                      <a:endParaRPr b="0" lang="en-US" sz="18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Aux. Converter</a:t>
            </a:r>
            <a:endParaRPr b="0" lang="en-US" sz="3200" spc="-1" strike="noStrike">
              <a:solidFill>
                <a:srgbClr val="000000"/>
              </a:solidFill>
              <a:latin typeface="Calibri"/>
            </a:endParaRPr>
          </a:p>
        </p:txBody>
      </p:sp>
      <p:graphicFrame>
        <p:nvGraphicFramePr>
          <p:cNvPr id="207" name=""/>
          <p:cNvGraphicFramePr/>
          <p:nvPr/>
        </p:nvGraphicFramePr>
        <p:xfrm>
          <a:off x="228600" y="914400"/>
          <a:ext cx="8610480" cy="3886200"/>
        </p:xfrm>
        <a:graphic>
          <a:graphicData uri="http://schemas.openxmlformats.org/drawingml/2006/table">
            <a:tbl>
              <a:tblPr/>
              <a:tblGrid>
                <a:gridCol w="620640"/>
                <a:gridCol w="2009880"/>
                <a:gridCol w="2779560"/>
                <a:gridCol w="3200400"/>
              </a:tblGrid>
              <a:tr h="336600">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r>
              <a:tr h="3549600">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7.</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smatch of Ramp up time </a:t>
                      </a:r>
                      <a:endParaRPr b="0" lang="en-US" sz="18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smatch of Ramp up time (16 sec) of BHEL make auxiliary converter with monitoring time (15 Sec)  of BT make Traction Converter even in latest software version R-1240 causing several time message of ‘TFP oil pressure not OK’ and after 3 times this leads to “ Main Power Off”. </a:t>
                      </a:r>
                      <a:endParaRPr b="0" lang="en-US" sz="18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Aux. Converter</a:t>
            </a:r>
            <a:endParaRPr b="0" lang="en-US" sz="3200" spc="-1" strike="noStrike">
              <a:solidFill>
                <a:srgbClr val="000000"/>
              </a:solidFill>
              <a:latin typeface="Calibri"/>
            </a:endParaRPr>
          </a:p>
        </p:txBody>
      </p:sp>
      <p:graphicFrame>
        <p:nvGraphicFramePr>
          <p:cNvPr id="209" name=""/>
          <p:cNvGraphicFramePr/>
          <p:nvPr/>
        </p:nvGraphicFramePr>
        <p:xfrm>
          <a:off x="228600" y="914400"/>
          <a:ext cx="8610480" cy="2860560"/>
        </p:xfrm>
        <a:graphic>
          <a:graphicData uri="http://schemas.openxmlformats.org/drawingml/2006/table">
            <a:tbl>
              <a:tblPr/>
              <a:tblGrid>
                <a:gridCol w="620640"/>
                <a:gridCol w="3265560"/>
                <a:gridCol w="3048120"/>
                <a:gridCol w="1676160"/>
              </a:tblGrid>
              <a:tr h="336600">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r>
              <a:tr h="2523960">
                <a:tc>
                  <a:txBody>
                    <a:bodyPr lIns="6840" rIns="6840" tIns="684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8.</a:t>
                      </a:r>
                      <a:endParaRPr b="0" lang="en-US" sz="2000" spc="-1" strike="noStrike">
                        <a:solidFill>
                          <a:srgbClr val="000000"/>
                        </a:solidFill>
                        <a:latin typeface="Arial"/>
                      </a:endParaRPr>
                    </a:p>
                  </a:txBody>
                  <a:tcPr anchor="t"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ontactor logic neither recorded in DDS nor in Aux.  ACI card.</a:t>
                      </a:r>
                      <a:endParaRPr b="0" lang="en-US" sz="18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solation of Aux. Converter due to contactor logic neither recorded in DDS nor in Aux.  ACI card. Only pop up message shown, so isolation of Aux. converter due to contactor mal operation could not be identified at shed.</a:t>
                      </a:r>
                      <a:endParaRPr b="0" lang="en-US" sz="18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10" name=""/>
          <p:cNvGraphicFramePr/>
          <p:nvPr/>
        </p:nvGraphicFramePr>
        <p:xfrm>
          <a:off x="228600" y="3774960"/>
          <a:ext cx="8610480" cy="2840040"/>
        </p:xfrm>
        <a:graphic>
          <a:graphicData uri="http://schemas.openxmlformats.org/drawingml/2006/table">
            <a:tbl>
              <a:tblPr/>
              <a:tblGrid>
                <a:gridCol w="609480"/>
                <a:gridCol w="3276720"/>
                <a:gridCol w="3048120"/>
                <a:gridCol w="1676160"/>
              </a:tblGrid>
              <a:tr h="126216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9.</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BUR 3 input current is having a variation of upto 20A between phases when Battery charger is in servic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Firm to look int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57788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There is power supply breaker to battery charger processor card and when it fails loco shut down with message battery voltage less than 82 V.</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Firm to look int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C5CE-365B-4F23-8B19-75EF3B03D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2" name="PlaceHolder 1"/>
          <p:cNvSpPr>
            <a:spLocks noGrp="1"/>
          </p:cNvSpPr>
          <p:nvPr>
            <p:ph type="title"/>
          </p:nvPr>
        </p:nvSpPr>
        <p:spPr>
          <a:xfrm>
            <a:off x="304920" y="2209680"/>
            <a:ext cx="86407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erformance of M/s. AAL make </a:t>
            </a:r>
            <a:br>
              <a:rPr sz="4400"/>
            </a:br>
            <a:r>
              <a:rPr b="1" lang="en-US" sz="4400" spc="-1" strike="noStrike">
                <a:solidFill>
                  <a:srgbClr val="c00000"/>
                </a:solidFill>
                <a:latin typeface="Calibri"/>
              </a:rPr>
              <a:t>Aux. Conver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AL make Aux. Converter</a:t>
            </a:r>
            <a:endParaRPr b="0" lang="en-US" sz="3200" spc="-1" strike="noStrike">
              <a:solidFill>
                <a:srgbClr val="000000"/>
              </a:solidFill>
              <a:latin typeface="Calibri"/>
            </a:endParaRPr>
          </a:p>
        </p:txBody>
      </p:sp>
      <p:pic>
        <p:nvPicPr>
          <p:cNvPr id="214" name="Object 78" descr=""/>
          <p:cNvPicPr/>
          <p:nvPr/>
        </p:nvPicPr>
        <p:blipFill>
          <a:blip r:embed="rId1"/>
          <a:stretch/>
        </p:blipFill>
        <p:spPr>
          <a:xfrm>
            <a:off x="111240" y="1600200"/>
            <a:ext cx="8921520" cy="36576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27432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AL make Aux. Converter</a:t>
            </a:r>
            <a:br>
              <a:rPr sz="3200"/>
            </a:br>
            <a:r>
              <a:rPr b="1" lang="en-US" sz="2400" spc="-1" strike="noStrike">
                <a:solidFill>
                  <a:srgbClr val="c00000"/>
                </a:solidFill>
                <a:latin typeface="Calibri"/>
              </a:rPr>
              <a:t>(SHED WISE)</a:t>
            </a:r>
            <a:endParaRPr b="0" lang="en-US" sz="2400" spc="-1" strike="noStrike">
              <a:solidFill>
                <a:srgbClr val="000000"/>
              </a:solidFill>
              <a:latin typeface="Calibri"/>
            </a:endParaRPr>
          </a:p>
        </p:txBody>
      </p:sp>
      <p:pic>
        <p:nvPicPr>
          <p:cNvPr id="216" name="Object 82" descr=""/>
          <p:cNvPicPr/>
          <p:nvPr/>
        </p:nvPicPr>
        <p:blipFill>
          <a:blip r:embed="rId1"/>
          <a:stretch/>
        </p:blipFill>
        <p:spPr>
          <a:xfrm>
            <a:off x="0" y="1981080"/>
            <a:ext cx="9080640" cy="2286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
          <p:cNvGraphicFramePr/>
          <p:nvPr/>
        </p:nvGraphicFramePr>
        <p:xfrm>
          <a:off x="685800" y="1295280"/>
          <a:ext cx="7772400" cy="3571920"/>
        </p:xfrm>
        <a:graphic>
          <a:graphicData uri="http://schemas.openxmlformats.org/drawingml/2006/table">
            <a:tbl>
              <a:tblPr/>
              <a:tblGrid>
                <a:gridCol w="509760"/>
                <a:gridCol w="1780920"/>
                <a:gridCol w="3179880"/>
                <a:gridCol w="2301840"/>
              </a:tblGrid>
              <a:tr h="311400">
                <a:tc>
                  <a:txBody>
                    <a:bodyPr lIns="6120" rIns="6120" tIns="61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ion plan</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ark</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r>
              <a:tr h="921240">
                <a:tc>
                  <a:txBody>
                    <a:bodyPr lIns="6120" rIns="6120" tIns="61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lure of PCB cards</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m to give action plan</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m to submit the action 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r>
              <a:tr h="1226160">
                <a:tc>
                  <a:txBody>
                    <a:bodyPr lIns="6120" rIns="6120" tIns="61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tibility of the messages with other make converters</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sue to message incompatibility with BTIPL make traction converter.</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r cut in of the Version 54 has been done.</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r>
              <a:tr h="1113120">
                <a:tc>
                  <a:txBody>
                    <a:bodyPr lIns="6120" rIns="6120" tIns="61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ftware malfunctioning</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ftware malfunctioning cases increased.</a:t>
                      </a: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m to submit the action 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18" name="PlaceHolder 1"/>
          <p:cNvSpPr>
            <a:spLocks noGrp="1"/>
          </p:cNvSpPr>
          <p:nvPr>
            <p:ph type="title"/>
          </p:nvPr>
        </p:nvSpPr>
        <p:spPr>
          <a:xfrm>
            <a:off x="0" y="19800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AAL make Aux. Conver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3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CGL make C-DAC VCU</a:t>
            </a:r>
            <a:endParaRPr b="0" lang="en-US" sz="3200" spc="-1" strike="noStrike">
              <a:solidFill>
                <a:srgbClr val="000000"/>
              </a:solidFill>
              <a:latin typeface="Calibri"/>
            </a:endParaRPr>
          </a:p>
        </p:txBody>
      </p:sp>
      <p:graphicFrame>
        <p:nvGraphicFramePr>
          <p:cNvPr id="63" name=""/>
          <p:cNvGraphicFramePr/>
          <p:nvPr/>
        </p:nvGraphicFramePr>
        <p:xfrm>
          <a:off x="152280" y="838080"/>
          <a:ext cx="8458200" cy="3205440"/>
        </p:xfrm>
        <a:graphic>
          <a:graphicData uri="http://schemas.openxmlformats.org/drawingml/2006/table">
            <a:tbl>
              <a:tblPr/>
              <a:tblGrid>
                <a:gridCol w="507960"/>
                <a:gridCol w="3299040"/>
                <a:gridCol w="4651200"/>
              </a:tblGrid>
              <a:tr h="477360">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N</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em</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tails</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6.</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ssage "earth fault trafo or motor" logged in data with Traction Bogie isolated.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ied Software loaded but problem not resolv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61040">
                <a:tc rowSpan="2">
                  <a:txBody>
                    <a:bodyPr lIns="64080" rIns="64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7.</a:t>
                      </a:r>
                      <a:endParaRPr b="0" lang="en-US" sz="2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essage display on DD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or isolation popup message is logged in DDS but not displayed on DD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R failure data doesn’t get displayed in DD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ff0000"/>
                </a:solidFill>
                <a:latin typeface="Calibri"/>
              </a:rPr>
              <a:t>Other Important Issues</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evelopment of facilities for full load testing &amp; software testing at OEM’s premises.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tatus of development of Composite Converter (TC+HLC) for WAP5 locos.</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ogress of Push-Pull modification in WAP5 &amp; WAP7 locomoti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EE2E-88FD-4AED-8BBF-40F8E3575E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250920" y="145800"/>
            <a:ext cx="8640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Upgradation of WAP-5 to 6000 HP</a:t>
            </a:r>
            <a:endParaRPr b="0" lang="en-US" sz="3600" spc="-1" strike="noStrike">
              <a:solidFill>
                <a:srgbClr val="000000"/>
              </a:solidFill>
              <a:latin typeface="Calibri"/>
            </a:endParaRPr>
          </a:p>
        </p:txBody>
      </p:sp>
      <p:graphicFrame>
        <p:nvGraphicFramePr>
          <p:cNvPr id="223" name=""/>
          <p:cNvGraphicFramePr/>
          <p:nvPr/>
        </p:nvGraphicFramePr>
        <p:xfrm>
          <a:off x="1600200" y="1219320"/>
          <a:ext cx="5562720" cy="5502240"/>
        </p:xfrm>
        <a:graphic>
          <a:graphicData uri="http://schemas.openxmlformats.org/drawingml/2006/table">
            <a:tbl>
              <a:tblPr/>
              <a:tblGrid>
                <a:gridCol w="1436760"/>
                <a:gridCol w="1438200"/>
                <a:gridCol w="895320"/>
                <a:gridCol w="897120"/>
                <a:gridCol w="895320"/>
              </a:tblGrid>
              <a:tr h="39996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co type</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ZB </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RC </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 </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r>
              <a:tr h="36504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TO SR </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pulation</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graded</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40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HEL SR </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pulation</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graded</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04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BB SR </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pulation</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graded</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40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TIPL SR </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pulation</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graded</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04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dha SR </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pulation</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graded</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04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GL SR </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pulation</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graded</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6504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 </a:t>
                      </a:r>
                      <a:endParaRPr b="0" lang="en-US" sz="18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4f81bd"/>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pulation</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3</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1</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r h="354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graded</a:t>
                      </a:r>
                      <a:endParaRPr b="0" lang="en-US" sz="1800" spc="-1" strike="noStrike">
                        <a:solidFill>
                          <a:srgbClr val="000000"/>
                        </a:solidFill>
                        <a:latin typeface="Arial"/>
                      </a:endParaRPr>
                    </a:p>
                  </a:txBody>
                  <a:tcPr anchor="t"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9</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7</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d0d8e8"/>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6</a:t>
                      </a:r>
                      <a:endParaRPr b="0" lang="en-US" sz="18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Infrastructure needed for Maintenance of 3-Phase Locomotives</a:t>
            </a:r>
            <a:br>
              <a:rPr sz="4000"/>
            </a:br>
            <a:r>
              <a:rPr b="1" lang="en-US" sz="3200" spc="-1" strike="noStrike">
                <a:solidFill>
                  <a:srgbClr val="953735"/>
                </a:solidFill>
                <a:latin typeface="Calibri"/>
              </a:rPr>
              <a:t>(Position as on 31.01.2019)</a:t>
            </a:r>
            <a:endParaRPr b="0" lang="en-US" sz="3200" spc="-1" strike="noStrike">
              <a:solidFill>
                <a:srgbClr val="000000"/>
              </a:solidFill>
              <a:latin typeface="Calibri"/>
            </a:endParaRPr>
          </a:p>
        </p:txBody>
      </p:sp>
      <p:sp>
        <p:nvSpPr>
          <p:cNvPr id="225" name=""/>
          <p:cNvSpPr txBox="1"/>
          <p:nvPr/>
        </p:nvSpPr>
        <p:spPr>
          <a:xfrm>
            <a:off x="380880" y="225576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Basic infrastructure</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Test Setup</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Other Facilities</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Developmental items</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762120"/>
          </a:xfrm>
          <a:prstGeom prst="rect">
            <a:avLst/>
          </a:prstGeom>
          <a:noFill/>
          <a:ln w="0">
            <a:noFill/>
          </a:ln>
        </p:spPr>
        <p:txBody>
          <a:bodyPr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asic infrastructure</a:t>
            </a:r>
            <a:endParaRPr b="0" lang="en-US" sz="4000" spc="-1" strike="noStrike">
              <a:solidFill>
                <a:srgbClr val="000000"/>
              </a:solidFill>
              <a:latin typeface="Calibri"/>
            </a:endParaRPr>
          </a:p>
        </p:txBody>
      </p:sp>
      <p:graphicFrame>
        <p:nvGraphicFramePr>
          <p:cNvPr id="227" name=""/>
          <p:cNvGraphicFramePr/>
          <p:nvPr/>
        </p:nvGraphicFramePr>
        <p:xfrm>
          <a:off x="111240" y="1260360"/>
          <a:ext cx="8991360" cy="4713480"/>
        </p:xfrm>
        <a:graphic>
          <a:graphicData uri="http://schemas.openxmlformats.org/drawingml/2006/table">
            <a:tbl>
              <a:tblPr/>
              <a:tblGrid>
                <a:gridCol w="326880"/>
                <a:gridCol w="1300320"/>
                <a:gridCol w="415800"/>
                <a:gridCol w="414360"/>
                <a:gridCol w="414360"/>
                <a:gridCol w="417600"/>
                <a:gridCol w="414360"/>
                <a:gridCol w="414360"/>
                <a:gridCol w="483840"/>
                <a:gridCol w="414360"/>
                <a:gridCol w="525600"/>
                <a:gridCol w="509760"/>
                <a:gridCol w="434880"/>
                <a:gridCol w="509400"/>
                <a:gridCol w="581040"/>
                <a:gridCol w="542880"/>
                <a:gridCol w="479520"/>
                <a:gridCol w="392040"/>
              </a:tblGrid>
              <a:tr h="439200">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N</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em</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AQ</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BIA</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CNB</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BRC</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HWH</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GMO</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GZB</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KYN</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KZJ</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LGD</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RPM</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TATA</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BNDM</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TKD</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LDH</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rPr>
                        <a:t>WAT</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r>
              <a:tr h="750960">
                <a:tc rowSpan="2">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co Diagnostic System (LDS) </a:t>
                      </a:r>
                      <a:r>
                        <a:rPr b="0" lang="en-US" sz="1400" spc="-1" strike="noStrike">
                          <a:solidFill>
                            <a:srgbClr val="000000"/>
                          </a:solidFill>
                          <a:latin typeface="Arial"/>
                        </a:rPr>
                        <a:t>–</a:t>
                      </a:r>
                      <a:r>
                        <a:rPr b="0" lang="en-US" sz="1400" spc="-1" strike="noStrike">
                          <a:solidFill>
                            <a:srgbClr val="000000"/>
                          </a:solidFill>
                          <a:latin typeface="Calibri"/>
                        </a:rPr>
                        <a:t> Defective/Total</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3</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8</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r>
              <a:tr h="69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windows based LD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r>
              <a:tr h="1078560">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t of Loop Boxes with Sub-D and Gimota Circular Connector</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r>
              <a:tr h="750960">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dicated computers for storage of DDS </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r>
              <a:tr h="997200">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ystem of interconnected electronic racks as TC/134</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8" name="TextBox 1"/>
          <p:cNvSpPr/>
          <p:nvPr/>
        </p:nvSpPr>
        <p:spPr>
          <a:xfrm>
            <a:off x="2362320" y="64008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rtially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Test Setup Required in Maintenance Shed</a:t>
            </a:r>
            <a:endParaRPr b="0" lang="en-US" sz="4000" spc="-1" strike="noStrike">
              <a:solidFill>
                <a:srgbClr val="000000"/>
              </a:solidFill>
              <a:latin typeface="Calibri"/>
            </a:endParaRPr>
          </a:p>
        </p:txBody>
      </p:sp>
      <p:graphicFrame>
        <p:nvGraphicFramePr>
          <p:cNvPr id="230" name=""/>
          <p:cNvGraphicFramePr/>
          <p:nvPr/>
        </p:nvGraphicFramePr>
        <p:xfrm>
          <a:off x="76320" y="870120"/>
          <a:ext cx="9067680" cy="4113000"/>
        </p:xfrm>
        <a:graphic>
          <a:graphicData uri="http://schemas.openxmlformats.org/drawingml/2006/table">
            <a:tbl>
              <a:tblPr/>
              <a:tblGrid>
                <a:gridCol w="1288800"/>
                <a:gridCol w="428760"/>
                <a:gridCol w="409680"/>
                <a:gridCol w="539640"/>
                <a:gridCol w="457200"/>
                <a:gridCol w="533520"/>
                <a:gridCol w="533160"/>
                <a:gridCol w="457200"/>
                <a:gridCol w="457200"/>
                <a:gridCol w="459000"/>
                <a:gridCol w="479160"/>
                <a:gridCol w="551160"/>
                <a:gridCol w="487080"/>
                <a:gridCol w="497160"/>
                <a:gridCol w="458640"/>
                <a:gridCol w="479520"/>
                <a:gridCol w="550800"/>
              </a:tblGrid>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Ite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AQ</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BI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CN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BR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HW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GM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GZ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KY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KZJ</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LG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RP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TAT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BND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TK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LD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W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22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Testing of WRE Module as per SMI/261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96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Testing of WRE gate unit card as per SMI/25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Testing of SAP card as per SMI/2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MS Mincho"/>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MS Mincho"/>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Testing Pressure Senso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MS Mincho"/>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MS Mincho"/>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MS Mincho"/>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Test Setup Required in Maintenance Shed</a:t>
            </a:r>
            <a:endParaRPr b="0" lang="en-US" sz="4000" spc="-1" strike="noStrike">
              <a:solidFill>
                <a:srgbClr val="000000"/>
              </a:solidFill>
              <a:latin typeface="Calibri"/>
            </a:endParaRPr>
          </a:p>
        </p:txBody>
      </p:sp>
      <p:graphicFrame>
        <p:nvGraphicFramePr>
          <p:cNvPr id="232" name=""/>
          <p:cNvGraphicFramePr/>
          <p:nvPr/>
        </p:nvGraphicFramePr>
        <p:xfrm>
          <a:off x="-22320" y="1219320"/>
          <a:ext cx="9166320" cy="2743200"/>
        </p:xfrm>
        <a:graphic>
          <a:graphicData uri="http://schemas.openxmlformats.org/drawingml/2006/table">
            <a:tbl>
              <a:tblPr/>
              <a:tblGrid>
                <a:gridCol w="1258920"/>
                <a:gridCol w="411120"/>
                <a:gridCol w="412920"/>
                <a:gridCol w="412560"/>
                <a:gridCol w="480960"/>
                <a:gridCol w="549360"/>
                <a:gridCol w="619200"/>
                <a:gridCol w="517680"/>
                <a:gridCol w="482400"/>
                <a:gridCol w="482760"/>
                <a:gridCol w="484200"/>
                <a:gridCol w="509400"/>
                <a:gridCol w="542880"/>
                <a:gridCol w="552600"/>
                <a:gridCol w="482400"/>
                <a:gridCol w="484200"/>
                <a:gridCol w="482760"/>
              </a:tblGrid>
              <a:tr h="477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Ite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AQ</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BI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CN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BR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HW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GM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GZ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KY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KZJ</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LG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RP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TAT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BND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TK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LD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libri"/>
                          <a:ea typeface="MS Mincho"/>
                        </a:rPr>
                        <a:t>W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Testing of Temp sensor as per SMI/2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MS Mincho"/>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Testing of Speed Senso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MS Mincho"/>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22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Testing of SR gate drive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3159360" y="228600"/>
            <a:ext cx="300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ther Facilities </a:t>
            </a:r>
            <a:endParaRPr b="0" lang="en-US" sz="3200" spc="-1" strike="noStrike">
              <a:solidFill>
                <a:srgbClr val="000000"/>
              </a:solidFill>
              <a:latin typeface="Arial"/>
            </a:endParaRPr>
          </a:p>
        </p:txBody>
      </p:sp>
      <p:graphicFrame>
        <p:nvGraphicFramePr>
          <p:cNvPr id="234" name=""/>
          <p:cNvGraphicFramePr/>
          <p:nvPr/>
        </p:nvGraphicFramePr>
        <p:xfrm>
          <a:off x="0" y="870120"/>
          <a:ext cx="9144000" cy="5841720"/>
        </p:xfrm>
        <a:graphic>
          <a:graphicData uri="http://schemas.openxmlformats.org/drawingml/2006/table">
            <a:tbl>
              <a:tblPr/>
              <a:tblGrid>
                <a:gridCol w="1500120"/>
                <a:gridCol w="428760"/>
                <a:gridCol w="428400"/>
                <a:gridCol w="500400"/>
                <a:gridCol w="571320"/>
                <a:gridCol w="571680"/>
                <a:gridCol w="500040"/>
                <a:gridCol w="500040"/>
                <a:gridCol w="500040"/>
                <a:gridCol w="500040"/>
                <a:gridCol w="500040"/>
                <a:gridCol w="571320"/>
                <a:gridCol w="571680"/>
                <a:gridCol w="500040"/>
                <a:gridCol w="500040"/>
                <a:gridCol w="500040"/>
              </a:tblGrid>
              <a:tr h="477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Ite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AQ</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BI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BR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HW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GM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GZ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KY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KZJ</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LG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RP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TAT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BNDM</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TK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LD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80fc1"/>
                          </a:solidFill>
                          <a:latin typeface="Calibri"/>
                          <a:ea typeface="MS Mincho"/>
                        </a:rPr>
                        <a:t>W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CB handling and infrastructure for electronic l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 &amp; No resp.</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ustrial type of vacuum clean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96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ter Pressure jet for cleaning the radiator and air filt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96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ility for warm water for cleaning of the filt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MS Mincho"/>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706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TO valve set repair facilities as per RDSO SMI for the sheds which undertake the GTO valve set repai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 expt clamping facility</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657440" y="2285640"/>
            <a:ext cx="5829120" cy="11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RITICAL RAP OF</a:t>
            </a:r>
            <a:br>
              <a:rPr sz="3000"/>
            </a:br>
            <a:r>
              <a:rPr b="1" lang="en-US" sz="3000" spc="-1" strike="noStrike">
                <a:solidFill>
                  <a:srgbClr val="ff0000"/>
                </a:solidFill>
                <a:latin typeface="Calibri"/>
              </a:rPr>
              <a:t>3-PHASE LOCOMOTIVES</a:t>
            </a:r>
            <a:endParaRPr b="0" lang="en-US" sz="3000" spc="-1" strike="noStrike">
              <a:solidFill>
                <a:srgbClr val="000000"/>
              </a:solidFill>
              <a:latin typeface="Calibri"/>
            </a:endParaRPr>
          </a:p>
        </p:txBody>
      </p:sp>
      <p:sp>
        <p:nvSpPr>
          <p:cNvPr id="236" name="Title 1"/>
          <p:cNvSpPr/>
          <p:nvPr/>
        </p:nvSpPr>
        <p:spPr>
          <a:xfrm>
            <a:off x="1657440" y="2384280"/>
            <a:ext cx="5829120" cy="1101960"/>
          </a:xfrm>
          <a:prstGeom prst="rect">
            <a:avLst/>
          </a:prstGeom>
          <a:no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47920" y="228240"/>
            <a:ext cx="582912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osition of One Time Important RAP</a:t>
            </a:r>
            <a:endParaRPr b="0" lang="en-US" sz="2400" spc="-1" strike="noStrike">
              <a:solidFill>
                <a:srgbClr val="000000"/>
              </a:solidFill>
              <a:latin typeface="Calibri"/>
            </a:endParaRPr>
          </a:p>
        </p:txBody>
      </p:sp>
      <p:graphicFrame>
        <p:nvGraphicFramePr>
          <p:cNvPr id="238" name=""/>
          <p:cNvGraphicFramePr/>
          <p:nvPr/>
        </p:nvGraphicFramePr>
        <p:xfrm>
          <a:off x="76320" y="838080"/>
          <a:ext cx="8991360" cy="5715000"/>
        </p:xfrm>
        <a:graphic>
          <a:graphicData uri="http://schemas.openxmlformats.org/drawingml/2006/table">
            <a:tbl>
              <a:tblPr/>
              <a:tblGrid>
                <a:gridCol w="380880"/>
                <a:gridCol w="533520"/>
                <a:gridCol w="838080"/>
                <a:gridCol w="762120"/>
                <a:gridCol w="838080"/>
                <a:gridCol w="838080"/>
                <a:gridCol w="838440"/>
                <a:gridCol w="761760"/>
                <a:gridCol w="838440"/>
                <a:gridCol w="761760"/>
                <a:gridCol w="838440"/>
                <a:gridCol w="761760"/>
              </a:tblGrid>
              <a:tr h="868320">
                <a:tc>
                  <a:txBody>
                    <a:bodyPr lIns="21240" rIns="21240" tIns="21240" bIns="212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21240" rIns="21240" tIns="21240" bIns="212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placement of EPROM after 6 years of servic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reate low pressure zone by providing Baffle plates</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Blocking leak holes in the Machine Room</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ed relay modification</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ab redundency modification</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hed</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o. of Locos to be don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umulative up to dat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o. of Locos to be don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umulative up to dat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o. of Locos to be don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umulative up to dat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o. of Locos to be don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umulative up to dat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o. of Locos to be don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umulative up to date</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1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6</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1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N</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028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ECo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000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EC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MO</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1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E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WH</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1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C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NB</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000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ZB</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6</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7</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7</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7</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7</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1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DH</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1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C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GD</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7</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7</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7</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7</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000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C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1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E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A</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1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M</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144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C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KD</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0000">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WR</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C</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5000">
                <a:tc gridSpan="2">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rand</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otal</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453</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289</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5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55</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5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5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44</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298</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1240" rIns="21240" tIns="21240" bIns="2124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1082</a:t>
                      </a:r>
                      <a:endParaRPr b="0" lang="en-US" sz="1200" spc="-1" strike="noStrike">
                        <a:solidFill>
                          <a:srgbClr val="000000"/>
                        </a:solidFill>
                        <a:latin typeface="Arial"/>
                      </a:endParaRPr>
                    </a:p>
                  </a:txBody>
                  <a:tcPr anchor="ctr" marL="21240" marR="21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9" name=""/>
          <p:cNvGraphicFramePr/>
          <p:nvPr/>
        </p:nvGraphicFramePr>
        <p:xfrm>
          <a:off x="1257480" y="1200240"/>
          <a:ext cx="6572160" cy="4592520"/>
        </p:xfrm>
        <a:graphic>
          <a:graphicData uri="http://schemas.openxmlformats.org/drawingml/2006/table">
            <a:tbl>
              <a:tblPr/>
              <a:tblGrid>
                <a:gridCol w="1104840"/>
                <a:gridCol w="291960"/>
                <a:gridCol w="365040"/>
                <a:gridCol w="425520"/>
                <a:gridCol w="426960"/>
                <a:gridCol w="365400"/>
                <a:gridCol w="304560"/>
                <a:gridCol w="365040"/>
                <a:gridCol w="365400"/>
                <a:gridCol w="365040"/>
                <a:gridCol w="365040"/>
                <a:gridCol w="426960"/>
                <a:gridCol w="304920"/>
                <a:gridCol w="365040"/>
                <a:gridCol w="303480"/>
                <a:gridCol w="426960"/>
              </a:tblGrid>
              <a:tr h="279360">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Descriptio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AQ</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KY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HW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MO</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WAT</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Z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D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CN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RPM</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G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AT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I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RC</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K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otal</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r>
              <a:tr h="120492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Shifting of MCB-100 to HB-2 panel. (Ref : MS/0367)</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6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4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0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r h="160812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Calibri"/>
                        </a:rPr>
                        <a:t>Rehabilitation of PCB cards (Ref : RDSO guideline no. ELG/2008/01, Rev. ‘1’ dated 13.08.09)</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5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6</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3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52</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66</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8</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3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2</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3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96</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r h="150012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Replacement of EPROM in locomotives after 6 years (Ref : TOT /RDSO guideline)</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47</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3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33</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41</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8</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3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8</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01</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7668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erformance of M/s. BHEL make C-DAC VCU</a:t>
            </a:r>
            <a:endParaRPr b="0" lang="en-US" sz="3200" spc="-1" strike="noStrike">
              <a:solidFill>
                <a:srgbClr val="000000"/>
              </a:solidFill>
              <a:latin typeface="Calibri"/>
            </a:endParaRPr>
          </a:p>
        </p:txBody>
      </p:sp>
      <p:graphicFrame>
        <p:nvGraphicFramePr>
          <p:cNvPr id="65" name=""/>
          <p:cNvGraphicFramePr/>
          <p:nvPr/>
        </p:nvGraphicFramePr>
        <p:xfrm>
          <a:off x="380880" y="932040"/>
          <a:ext cx="8458200" cy="4706640"/>
        </p:xfrm>
        <a:graphic>
          <a:graphicData uri="http://schemas.openxmlformats.org/drawingml/2006/table">
            <a:tbl>
              <a:tblPr/>
              <a:tblGrid>
                <a:gridCol w="609840"/>
                <a:gridCol w="1828800"/>
                <a:gridCol w="3504960"/>
                <a:gridCol w="2514600"/>
              </a:tblGrid>
              <a:tr h="550800">
                <a:tc>
                  <a:txBody>
                    <a:bodyPr lIns="6840" rIns="6840" tIns="68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N</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tem</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tails</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mark</a:t>
                      </a:r>
                      <a:endParaRPr b="0" lang="en-US" sz="22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193500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49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M isolation from DDU is possible only from CAB-1</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47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BHEL TCN Locos, TM isolation from DDU is possible only from CAB-1. From CAB-2 TM isolation not possible from DDU. </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343080" indent="-24156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HEL has stated that they will study the issue and revert back by 20.02.2018.</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r h="2220840">
                <a:tc>
                  <a:txBody>
                    <a:bodyPr lIns="5400" rIns="5400" tIns="540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a:t>
                      </a:r>
                      <a:endParaRPr b="0" lang="en-US" sz="1800" spc="-1" strike="noStrike">
                        <a:solidFill>
                          <a:srgbClr val="000000"/>
                        </a:solidFill>
                        <a:latin typeface="Arial"/>
                      </a:endParaRPr>
                    </a:p>
                  </a:txBody>
                  <a:tcPr anchor="t"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49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t failure of train bus communication in MU operation </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47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Frequent failure of train bus communication in MU operation of MICAS based system with IGBT BHEL traction converter. The failures are transient but repetitive in nature.</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c>
                  <a:txBody>
                    <a:bodyPr lIns="6840" rIns="6840" tIns="6840" bIns="0" anchor="t">
                      <a:noAutofit/>
                    </a:bodyPr>
                    <a:p>
                      <a:pPr marL="343080" indent="-24156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HEL to study the issue and submit the action plan.</a:t>
                      </a:r>
                      <a:endParaRPr b="0" lang="en-US" sz="2000" spc="-1" strike="noStrike">
                        <a:solidFill>
                          <a:srgbClr val="000000"/>
                        </a:solidFill>
                        <a:latin typeface="Arial"/>
                      </a:endParaRPr>
                    </a:p>
                  </a:txBody>
                  <a:tcPr anchor="t" marL="6840" marR="6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1257480" y="1200240"/>
          <a:ext cx="6572160" cy="1886040"/>
        </p:xfrm>
        <a:graphic>
          <a:graphicData uri="http://schemas.openxmlformats.org/drawingml/2006/table">
            <a:tbl>
              <a:tblPr/>
              <a:tblGrid>
                <a:gridCol w="1104840"/>
                <a:gridCol w="291960"/>
                <a:gridCol w="365040"/>
                <a:gridCol w="425520"/>
                <a:gridCol w="426960"/>
                <a:gridCol w="365400"/>
                <a:gridCol w="304560"/>
                <a:gridCol w="365040"/>
                <a:gridCol w="365400"/>
                <a:gridCol w="365040"/>
                <a:gridCol w="365040"/>
                <a:gridCol w="426960"/>
                <a:gridCol w="304920"/>
                <a:gridCol w="365040"/>
                <a:gridCol w="303480"/>
                <a:gridCol w="426960"/>
              </a:tblGrid>
              <a:tr h="279360">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Descriptio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AQ</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KY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HW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MO</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WAT</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Z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D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CN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RPM</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G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AT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I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RC</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K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otal</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r>
              <a:tr h="160668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Modification in the SR cooling pump</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6</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8</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1" name=""/>
          <p:cNvGraphicFramePr/>
          <p:nvPr/>
        </p:nvGraphicFramePr>
        <p:xfrm>
          <a:off x="1257480" y="3086280"/>
          <a:ext cx="6572160" cy="1831680"/>
        </p:xfrm>
        <a:graphic>
          <a:graphicData uri="http://schemas.openxmlformats.org/drawingml/2006/table">
            <a:tbl>
              <a:tblPr/>
              <a:tblGrid>
                <a:gridCol w="1104840"/>
                <a:gridCol w="291960"/>
                <a:gridCol w="365040"/>
                <a:gridCol w="425520"/>
                <a:gridCol w="426960"/>
                <a:gridCol w="365400"/>
                <a:gridCol w="304560"/>
                <a:gridCol w="365040"/>
                <a:gridCol w="365400"/>
                <a:gridCol w="365040"/>
                <a:gridCol w="365040"/>
                <a:gridCol w="426960"/>
                <a:gridCol w="304920"/>
                <a:gridCol w="365040"/>
                <a:gridCol w="303480"/>
                <a:gridCol w="426960"/>
              </a:tblGrid>
              <a:tr h="296640">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Descriptio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AQ</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KY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HW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MO</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WAT</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Z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D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CN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RPM</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G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AT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I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RC</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K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otal</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r>
              <a:tr h="1535040">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Modified cooling radiator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for SR. (Ref : RDSO L/N EL/11.5.5/5 dt. 15.02.10.)</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2" name=""/>
          <p:cNvGraphicFramePr/>
          <p:nvPr/>
        </p:nvGraphicFramePr>
        <p:xfrm>
          <a:off x="1257480" y="4917960"/>
          <a:ext cx="6572160" cy="1832040"/>
        </p:xfrm>
        <a:graphic>
          <a:graphicData uri="http://schemas.openxmlformats.org/drawingml/2006/table">
            <a:tbl>
              <a:tblPr/>
              <a:tblGrid>
                <a:gridCol w="1104840"/>
                <a:gridCol w="291960"/>
                <a:gridCol w="365040"/>
                <a:gridCol w="425520"/>
                <a:gridCol w="426960"/>
                <a:gridCol w="365400"/>
                <a:gridCol w="304560"/>
                <a:gridCol w="365040"/>
                <a:gridCol w="365400"/>
                <a:gridCol w="365040"/>
                <a:gridCol w="365040"/>
                <a:gridCol w="426960"/>
                <a:gridCol w="304920"/>
                <a:gridCol w="365040"/>
                <a:gridCol w="303480"/>
                <a:gridCol w="426960"/>
              </a:tblGrid>
              <a:tr h="297000">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Descriptio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AQ</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KY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HW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MO</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WAT</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Z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D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CN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RPM</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G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AT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I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RC</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K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otal</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r>
              <a:tr h="1535040">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Roof clamp</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98</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51</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8</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41</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6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2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9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688</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1571760" y="1030320"/>
          <a:ext cx="6514920" cy="2624040"/>
        </p:xfrm>
        <a:graphic>
          <a:graphicData uri="http://schemas.openxmlformats.org/drawingml/2006/table">
            <a:tbl>
              <a:tblPr/>
              <a:tblGrid>
                <a:gridCol w="1096920"/>
                <a:gridCol w="287280"/>
                <a:gridCol w="361800"/>
                <a:gridCol w="422280"/>
                <a:gridCol w="424080"/>
                <a:gridCol w="361800"/>
                <a:gridCol w="301680"/>
                <a:gridCol w="361800"/>
                <a:gridCol w="362160"/>
                <a:gridCol w="361800"/>
                <a:gridCol w="362160"/>
                <a:gridCol w="423720"/>
                <a:gridCol w="301680"/>
                <a:gridCol w="361800"/>
                <a:gridCol w="301680"/>
                <a:gridCol w="422280"/>
              </a:tblGrid>
              <a:tr h="215640">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Descriptio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AQ</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KY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HW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MO</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WAT</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Z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D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CN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RPM</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G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AT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I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RC</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K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otal</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r>
              <a:tr h="2565000">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KUC 153 A01 Power supply card of Auxiliary converter (Ref : Replacement of capacitors of KUC 153 A01 card after service life of 06 years.)</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2</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59</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8</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1</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0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4" name=""/>
          <p:cNvGraphicFramePr/>
          <p:nvPr/>
        </p:nvGraphicFramePr>
        <p:xfrm>
          <a:off x="1571760" y="3657600"/>
          <a:ext cx="6507000" cy="1965240"/>
        </p:xfrm>
        <a:graphic>
          <a:graphicData uri="http://schemas.openxmlformats.org/drawingml/2006/table">
            <a:tbl>
              <a:tblPr/>
              <a:tblGrid>
                <a:gridCol w="1106280"/>
                <a:gridCol w="290520"/>
                <a:gridCol w="365040"/>
                <a:gridCol w="403200"/>
                <a:gridCol w="416160"/>
                <a:gridCol w="371520"/>
                <a:gridCol w="295200"/>
                <a:gridCol w="371520"/>
                <a:gridCol w="365040"/>
                <a:gridCol w="352440"/>
                <a:gridCol w="369720"/>
                <a:gridCol w="422280"/>
                <a:gridCol w="295560"/>
                <a:gridCol w="358560"/>
                <a:gridCol w="320760"/>
                <a:gridCol w="403200"/>
              </a:tblGrid>
              <a:tr h="428760">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Descriptio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AQ</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KYN</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HW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MO</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WAT</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GZ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DH</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CNB</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RPM</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LG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AT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IA</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BRC</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KD</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563c1"/>
                          </a:solidFill>
                          <a:uFillTx/>
                          <a:latin typeface="Calibri"/>
                        </a:rPr>
                        <a:t>Total</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r>
              <a:tr h="1536480">
                <a:tc>
                  <a:txBody>
                    <a:bodyPr lIns="2160" rIns="2160" tIns="2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Modified cooling radiator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for SR. (Ref : RDSO L/N EL/11.5.5/5 dt. 15.02.10.)</a:t>
                      </a:r>
                      <a:endParaRPr b="0" lang="en-US" sz="1400" spc="-1" strike="noStrike">
                        <a:solidFill>
                          <a:srgbClr val="000000"/>
                        </a:solidFill>
                        <a:latin typeface="Arial"/>
                      </a:endParaRPr>
                    </a:p>
                  </a:txBody>
                  <a:tcPr anchor="ctr" marL="2160" marR="216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1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4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0</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rPr>
                        <a:t>54</a:t>
                      </a:r>
                      <a:endParaRPr b="0" lang="en-US" sz="14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609480"/>
            <a:ext cx="853452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3399"/>
                </a:solidFill>
                <a:latin typeface="Brush Script MT"/>
              </a:rPr>
              <a:t>Thanks !</a:t>
            </a:r>
            <a:endParaRPr b="0" lang="en-US" sz="13800" spc="-1" strike="noStrike">
              <a:solidFill>
                <a:srgbClr val="000000"/>
              </a:solidFill>
              <a:latin typeface="Calibri"/>
            </a:endParaRPr>
          </a:p>
        </p:txBody>
      </p:sp>
      <p:sp>
        <p:nvSpPr>
          <p:cNvPr id="2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C929-666D-4961-A242-453F4FD276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DSE PS SC</dc:creator>
  <dc:description/>
  <dc:language>en-US</dc:language>
  <cp:lastModifiedBy>RDSO</cp:lastModifiedBy>
  <cp:lastPrinted>2019-02-13T09:14:55Z</cp:lastPrinted>
  <dcterms:modified xsi:type="dcterms:W3CDTF">2019-04-08T11:57:06Z</dcterms:modified>
  <cp:revision>1387</cp:revision>
  <dc:subject/>
  <dc:title>Slide 1</dc:title>
</cp:coreProperties>
</file>